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3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whoosh.wav" ContentType="audio/x-wav"/>
  <Override PartName="/ppt/media/image7.jpeg" ContentType="image/jpeg"/>
  <Override PartName="/ppt/media/image8.png" ContentType="image/png"/>
  <Override PartName="/ppt/media/image14.gif" ContentType="image/gif"/>
  <Override PartName="/ppt/media/image13.gif" ContentType="image/gif"/>
  <Override PartName="/ppt/media/image4.jpeg" ContentType="image/jpeg"/>
  <Override PartName="/ppt/media/image12.png" ContentType="image/png"/>
  <Override PartName="/ppt/media/image11.png" ContentType="image/png"/>
  <Override PartName="/ppt/media/%E7%8B%BC.WAV" ContentType="audio/x-wav"/>
  <Override PartName="/ppt/media/CAMERA.WAV" ContentType="audio/x-wav"/>
  <Override PartName="/ppt/media/laser.wav" ContentType="audio/x-wav"/>
  <Override PartName="/ppt/media/image1.gif" ContentType="image/gif"/>
  <Override PartName="/ppt/media/image6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57A19-A1F2-414B-96C6-CFDDC0A6A98F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C7731-BB94-4D3E-93C1-1E88829F85D5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宋体"/>
                <a:ea typeface="宋体"/>
              </a:rPr>
              <a:t>有个屠户天晚回家，担子里的肉已经卖完了，只剩下一些骨头。路上遇到两只狼，紧随着走了很远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3C666-714C-457E-8F36-4D9789CC1689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《狼》有关资料：译文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zh-CN" sz="1200" spc="-1" strike="noStrike">
                <a:solidFill>
                  <a:srgbClr val="999999"/>
                </a:solidFill>
                <a:latin typeface="Verdana"/>
                <a:ea typeface="宋体"/>
              </a:rPr>
              <a:t>(2003-04-12 13:02:21)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宋体"/>
                <a:ea typeface="宋体"/>
              </a:rPr>
              <a:t>有个屠户天晚回家，担子里的肉已经卖完了，只剩下一些骨头。路上遇到两只狼，紧随着走了很远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宋体"/>
                <a:ea typeface="宋体"/>
              </a:rPr>
              <a:t>屠户害怕了，拿起一块骨头扔过去。一只狼得到骨头停下了，另一只狼仍然跟着。屠户又拿起一块骨头扔过去，后得到骨头的那只狼停下了，可是先得到骨头的那只狼又跟上来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BE14C-B020-422B-A8A4-127CEFE90D14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18915-44C9-493B-9E42-BBAFA5C1B2C4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《狼》有关资料：译文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zh-CN" sz="1200" spc="-1" strike="noStrike">
                <a:solidFill>
                  <a:srgbClr val="999999"/>
                </a:solidFill>
                <a:latin typeface="Verdana"/>
                <a:ea typeface="宋体"/>
              </a:rPr>
              <a:t>(2003-04-12 13:02:21)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宋体"/>
                <a:ea typeface="宋体"/>
              </a:rPr>
              <a:t>有个屠户天晚回家，担子里的肉已经卖完了，只剩下一些骨头。路上遇到两只狼，紧随着走了很远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宋体"/>
                <a:ea typeface="宋体"/>
              </a:rPr>
              <a:t>屠户害怕了，拿起一块骨头扔过去。一只狼得到骨头停下了，另一只狼仍然跟着。屠户又拿起一块骨头扔过去，后得到骨头的那只狼停下了，可是先得到骨头的那只狼又跟上来。骨头已经扔完了，两只狼像原来一样一起追赶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宋体"/>
                <a:ea typeface="宋体"/>
              </a:rPr>
              <a:t>屠户很急很怕，恐怕前后一起受到狼的攻击。屠户于是奔过去倚靠在柴草堆下面，放下担子拿起屠刀。两只狼都不敢向前，瞪眼朝着屠户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宋体"/>
                <a:ea typeface="宋体"/>
              </a:rPr>
              <a:t>过了一会儿，一只狼径直走开，另一只狼像狗似的蹲坐在前面。时间长了，那只狼的眼睛似乎闭上了，神情悠闲得很。屠户突然跳起来，用刀劈狼的脑袋，又连砍几刀把狼杀死。屠户正要上路，转到柴草堆后面一看，只见另一只狼正在柴草堆里打洞，想要钻过去从背后对屠户进行攻击。狼的身子已经钻进一半，只有屁股和尾巴露在外面。屠户从后面砍断了狼的后腿，也把狼杀死。这才明白前面的那只狼假装睡觉，原来是用来诱惑敌方的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宋体"/>
                <a:ea typeface="宋体"/>
              </a:rPr>
              <a:t>狼也太狡猾了，可是一会儿两只狼都被砍死，禽兽的欺骗手段能有多少呢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?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  <a:ea typeface="宋体"/>
              </a:rPr>
              <a:t>只不过给人们增加笑料罢了。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人教版，九年制义务教育语文初中第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7D06D-114E-4108-B12E-31583AC5540B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《狼》有关资料：译文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266F3-E725-4B06-82DD-0C17C4F7556C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zh-CN" sz="1200" spc="-1" strike="noStrike">
                <a:solidFill>
                  <a:srgbClr val="999999"/>
                </a:solidFill>
                <a:latin typeface="Verdana"/>
                <a:ea typeface="宋体"/>
              </a:rPr>
              <a:t>(2003-04-12 13:02:21)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宋体"/>
                <a:ea typeface="宋体"/>
              </a:rPr>
              <a:t>有个屠户天晚回家，担子里的肉已经卖完了，只剩下一些骨头。路上遇到两只狼，紧随着走了很远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宋体"/>
                <a:ea typeface="宋体"/>
              </a:rPr>
              <a:t>屠户害怕了，拿起一块骨头扔过去。一只狼得到骨头停下了，另一只狼仍然跟着。屠户又拿起一块骨头扔过去，后得到骨头的那只狼停下了，可是先得到骨头的那只狼又跟上来。骨头已经扔完了，两只狼像原来一样一起追赶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宋体"/>
                <a:ea typeface="宋体"/>
              </a:rPr>
              <a:t>屠户很急很怕，恐怕前后一起受到狼的攻击。看见野地里有一个打麦场，场主人把柴草堆在打麦场里，覆盖成小山似的。屠户突然跳起来，用刀劈狼的脑袋，又连砍几刀把狼杀死。屠户正要上路，转到柴草堆后面一看，只见另一只狼正在柴草堆里打洞，想要钻过去从背后对屠户进行攻击。狼的身子已经钻进一半，只有屁股和尾巴露在外面。屠户从后面砍断了狼的后腿，也把狼杀死。这才明白前面的那只狼假装睡觉，原来是用来诱惑敌方的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宋体"/>
                <a:ea typeface="宋体"/>
              </a:rPr>
              <a:t>狼也太狡猾了，可是一会儿两只狼都被砍死，禽兽的欺骗手段能有多少呢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?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  <a:ea typeface="宋体"/>
              </a:rPr>
              <a:t>只不过给人们增加笑料罢了。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人教版，九年制义务教育语文初中第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15667-37A2-4749-A365-7A490553CDA8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宋体"/>
                <a:ea typeface="宋体"/>
              </a:rPr>
              <a:t>，，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1EFFE-58B7-4307-98F6-2D4B2F89677C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99C30-5179-46E9-9A10-E4E073F246CF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1A4AB-5F73-41C2-9419-3EAC6B364B72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《狼》有关资料：译文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zh-CN" sz="1200" spc="-1" strike="noStrike">
                <a:solidFill>
                  <a:srgbClr val="999999"/>
                </a:solidFill>
                <a:latin typeface="Verdana"/>
                <a:ea typeface="宋体"/>
              </a:rPr>
              <a:t>(2003-04-12 13:02:21)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宋体"/>
                <a:ea typeface="宋体"/>
              </a:rPr>
              <a:t>有个屠户天晚回家，担子里的肉已经卖完了，只剩下一些骨头。路上遇到两只狼，紧随着走了很远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宋体"/>
                <a:ea typeface="宋体"/>
              </a:rPr>
              <a:t>屠户害怕了，拿起一块骨头扔过去。一只狼得到骨头停下了，另一只狼仍然跟着。屠户又拿起一块骨头扔过去，后得到骨头的那只狼停下了，可是先得到骨头的那只狼又跟上来。骨头已经扔完了，两只狼像原来一样一起追赶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宋体"/>
                <a:ea typeface="宋体"/>
              </a:rPr>
              <a:t>屠户很急很怕，恐怕前后一起受到狼的攻击。看见野地里有一个打麦场，场主人把柴草堆在打麦场里，覆盖成小山似的。屠户于是奔过去倚靠在柴草堆下面，放下担子拿起屠刀。两只狼都不敢向前，瞪眼朝着屠户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宋体"/>
                <a:ea typeface="宋体"/>
              </a:rPr>
              <a:t>过了一会儿，一只狼径直走开，另一只狼像狗似的蹲坐在前面。时间长了，那只狼的眼睛似乎闭上了，神情悠闲得很。屠户突然跳起来，用刀劈狼的脑袋，又连砍几刀把狼杀死。，，，，狼也太狡猾了，可是一会儿两只狼都被砍死，禽兽的欺骗手段能有多少呢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?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  <a:ea typeface="宋体"/>
              </a:rPr>
              <a:t>只不过给人们增加笑料罢了。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人教版，九年制义务教育语文初中第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4A513-3C46-407E-ABF6-0093EEFDC2EC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37EE6-5861-4222-A9FA-F58CAC193683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幼圆"/>
                <a:ea typeface="幼圆"/>
              </a:rPr>
              <a:t>：认为这个故事讽喻像狼一样的恶人，不论怎样狡诈，终归要失败的，或者认为这个故事告诫人们，对待像狼一样的恶势力，不能存有幻想、妥协让步，必须敢于斗争，善于斗争，才能取得胜利，诸如此类的理解均无不可，但也未必一定要这样理解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《狼》练习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zh-CN" sz="1200" spc="-1" strike="noStrike">
                <a:solidFill>
                  <a:srgbClr val="999999"/>
                </a:solidFill>
                <a:latin typeface="Verdana"/>
                <a:ea typeface="宋体"/>
              </a:rPr>
              <a:t>(2003-04-12 13:02:22)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宋体"/>
                <a:ea typeface="宋体"/>
              </a:rPr>
              <a:t>一　熟读课文，回答下列问题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  <a:ea typeface="宋体"/>
              </a:rPr>
              <a:t>本文是怎样表现狼的狡猾的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宋体"/>
                <a:ea typeface="宋体"/>
              </a:rPr>
              <a:t>文中表现狼的狡猾的语句：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“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  <a:ea typeface="宋体"/>
              </a:rPr>
              <a:t>缀行甚远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”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  <a:ea typeface="宋体"/>
              </a:rPr>
              <a:t>，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“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  <a:ea typeface="宋体"/>
              </a:rPr>
              <a:t>一狼得骨止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……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  <a:ea typeface="宋体"/>
              </a:rPr>
              <a:t>两狼之并驱如故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”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  <a:ea typeface="宋体"/>
              </a:rPr>
              <a:t>，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“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  <a:ea typeface="宋体"/>
              </a:rPr>
              <a:t>狼不敢前，眈眈相向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”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  <a:ea typeface="宋体"/>
              </a:rPr>
              <a:t>，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“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  <a:ea typeface="宋体"/>
              </a:rPr>
              <a:t>一狼径去，其一犬坐于前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……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  <a:ea typeface="宋体"/>
              </a:rPr>
              <a:t>意暇甚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”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  <a:ea typeface="宋体"/>
              </a:rPr>
              <a:t>，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“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  <a:ea typeface="宋体"/>
              </a:rPr>
              <a:t>意将隧入以攻其后也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”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  <a:ea typeface="宋体"/>
              </a:rPr>
              <a:t>，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“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  <a:ea typeface="宋体"/>
              </a:rPr>
              <a:t>前狼假寐，盖以诱敌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”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2.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  <a:ea typeface="宋体"/>
              </a:rPr>
              <a:t>屠户的机智表现在什么地方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宋体"/>
                <a:ea typeface="宋体"/>
              </a:rPr>
              <a:t>文章写屠户的勇敢聪明，主要是通过他的行为动作表现出来的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宋体"/>
                <a:ea typeface="宋体"/>
              </a:rPr>
              <a:t>顾野有麦场；乃奔倚其下，弛担持刀；暴起，以刀劈狼首，又数刀毙之；转视积薪后，一狼洞其中；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……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  <a:ea typeface="宋体"/>
              </a:rPr>
              <a:t>屠自后断其股，亦毙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3.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  <a:ea typeface="宋体"/>
              </a:rPr>
              <a:t>作者对这件事发表了怎样的议论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“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  <a:ea typeface="宋体"/>
              </a:rPr>
              <a:t>狼亦黠矣，而顷刻两毙，禽兽之变诈几何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?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  <a:ea typeface="宋体"/>
              </a:rPr>
              <a:t>止增笑耳。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”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  <a:ea typeface="宋体"/>
              </a:rPr>
              <a:t>语在说狼，实则夸人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宋体"/>
                <a:ea typeface="宋体"/>
              </a:rPr>
              <a:t>二　联系上下文，解释下列加点的词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  <a:ea typeface="宋体"/>
              </a:rPr>
              <a:t>屠大窘，恐前后受其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宋体"/>
                <a:ea typeface="宋体"/>
              </a:rPr>
              <a:t>攻击，夹击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2.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  <a:ea typeface="宋体"/>
              </a:rPr>
              <a:t>顾野有麦场，场主积薪其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宋体"/>
                <a:ea typeface="宋体"/>
              </a:rPr>
              <a:t>回头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3.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  <a:ea typeface="宋体"/>
              </a:rPr>
              <a:t>屠乃奔倚其下，弛担持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宋体"/>
                <a:ea typeface="宋体"/>
              </a:rPr>
              <a:t>放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4.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  <a:ea typeface="宋体"/>
              </a:rPr>
              <a:t>转视积薪后，一狼洞其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宋体"/>
                <a:ea typeface="宋体"/>
              </a:rPr>
              <a:t>这里是名词作动词用，指打洞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5.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  <a:ea typeface="宋体"/>
              </a:rPr>
              <a:t>乃悟前狼假寐，盖以诱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宋体"/>
                <a:ea typeface="宋体"/>
              </a:rPr>
              <a:t>假装睡觉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宋体"/>
                <a:ea typeface="宋体"/>
              </a:rPr>
              <a:t>三　展开联想和想象，把本文改写成一篇白话故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宋体"/>
                <a:ea typeface="宋体"/>
              </a:rPr>
              <a:t>此题为开放性练习，既帮助学生进一步熟悉课文，又能使学生充分发挥联想和想象进行思考和写作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宋体"/>
                <a:ea typeface="宋体"/>
              </a:rPr>
              <a:t>《狼》教学建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宋体"/>
                <a:ea typeface="宋体"/>
              </a:rPr>
              <a:t>一、本文故事性很强，教师可采用讲故事的方法，先讲一遍，再引导学生反复诵读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  <a:ea typeface="宋体"/>
              </a:rPr>
              <a:t>如分组分角色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)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  <a:ea typeface="宋体"/>
              </a:rPr>
              <a:t>，铭记于心，然后仔细揣摩语言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宋体"/>
                <a:ea typeface="宋体"/>
              </a:rPr>
              <a:t>二、教学时引导学生体会和感悟狼的贪婪、凶狠和狡诈的本性，认识屠户性格的变化过程。正确认识人与狼斗智斗勇的矛盾。明确人的智慧胜于一切的深刻道理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宋体"/>
                <a:ea typeface="宋体"/>
              </a:rPr>
              <a:t>三、课文中有些词语在不同句子中有不同用法，如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“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  <a:ea typeface="宋体"/>
              </a:rPr>
              <a:t>故、前、敌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”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  <a:ea typeface="宋体"/>
              </a:rPr>
              <a:t>等，在教学中要引导学生分辨。文中狼和屠户双方矛盾白热化的转折过程是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“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  <a:ea typeface="宋体"/>
              </a:rPr>
              <a:t>顾野有麦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”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  <a:ea typeface="宋体"/>
              </a:rPr>
              <a:t>的描写，精彩细腻，值得玩味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人教版，九年制义务教育语文初中第一册教参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9901A-3400-411D-B2C9-D74640D73F4A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蒲松龄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字留仙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一字剑臣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别号柳泉居士。生于明崇祯 十三年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公元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1640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年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)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辛于清康熙五十四年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公元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1715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年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。他是清代著名的文学家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在中国乃至世界文学史上享有极高的声誉。十八岁中秀才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此后却屡试不第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遭遇坎坷。他将自己的怀才不遇、穷困潦倒、以及对当时社会矛盾的体察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饱蘸着血泪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倾注笔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创作了流传百世的〈聊斋志异〉。但他的创作成就并不仅限于此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几乎涉及文学的各个门类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他创作的诗现存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1056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首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词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119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阕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但曲有包括著名的〈墙头记〉、〈姑妇词〉在内的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15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种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70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余万字。此外蒲松龄还撰写了〈历日文〉、〈省身语录〉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9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种杂著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内容涉 及天文、农业、医药、教育等各个方面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另有〈闸窘〉等三部戏曲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《狼》有关资料：作者及《聊斋志异》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zh-CN" sz="1200" spc="-1" strike="noStrike">
                <a:solidFill>
                  <a:srgbClr val="999999"/>
                </a:solidFill>
                <a:latin typeface="Verdana"/>
                <a:ea typeface="宋体"/>
              </a:rPr>
              <a:t>(2003-04-12 13:02:22)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宋体"/>
                <a:ea typeface="宋体"/>
              </a:rPr>
              <a:t>蒲松龄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(1640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—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1715)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  <a:ea typeface="宋体"/>
              </a:rPr>
              <a:t>，字留仙，别号柳泉，山东淄川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  <a:ea typeface="宋体"/>
              </a:rPr>
              <a:t>今淄博市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)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  <a:ea typeface="宋体"/>
              </a:rPr>
              <a:t>人。他生在一个书香家庭，从小热衷功名，并在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19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  <a:ea typeface="宋体"/>
              </a:rPr>
              <a:t>岁时接连考取县、府、道的第一名，名震一时。但此后屡试不第。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31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  <a:ea typeface="宋体"/>
              </a:rPr>
              <a:t>岁时，他迫于家贫，应聘为宝应县知县孙蕙的幕宾，整天和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“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  <a:ea typeface="宋体"/>
              </a:rPr>
              <a:t>无端而代人歌哭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”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  <a:ea typeface="宋体"/>
              </a:rPr>
              <a:t>《戒应酬文》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)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  <a:ea typeface="宋体"/>
              </a:rPr>
              <a:t>的应酬文字打交道，大违素志，次年辞幕回乡。此后主要是在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“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  <a:ea typeface="宋体"/>
              </a:rPr>
              <a:t>缙绅先生家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”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  <a:ea typeface="宋体"/>
              </a:rPr>
              <a:t>设帐教学，直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70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  <a:ea typeface="宋体"/>
              </a:rPr>
              <a:t>岁才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“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  <a:ea typeface="宋体"/>
              </a:rPr>
              <a:t>撤帐归来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”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  <a:ea typeface="宋体"/>
              </a:rPr>
              <a:t>。这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40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  <a:ea typeface="宋体"/>
              </a:rPr>
              <a:t>年间，他一面教书，一面应考，终究还是个穷秀才。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71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  <a:ea typeface="宋体"/>
              </a:rPr>
              <a:t>岁他才援例出贡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  <a:ea typeface="宋体"/>
              </a:rPr>
              <a:t>年后便死去了。穷愁潦倒的一生，使他能接近和熟悉劳动人民，同情他们的疾苦，对科举制度的腐朽、官场的腐败、社会的黑暗有深刻的认识和体会。这些在他的作品中都有充分的反映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宋体"/>
                <a:ea typeface="宋体"/>
              </a:rPr>
              <a:t>《聊斋志异》是蒲松龄的代表作，在他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40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  <a:ea typeface="宋体"/>
              </a:rPr>
              <a:t>岁左右已基本完成，此后不断有所增补和修改，是他一生心血的结晶，也是他的文学创作的最高成就。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“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  <a:ea typeface="宋体"/>
              </a:rPr>
              <a:t>聊斋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”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  <a:ea typeface="宋体"/>
              </a:rPr>
              <a:t>是他的书屋名称，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“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  <a:ea typeface="宋体"/>
              </a:rPr>
              <a:t>志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”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  <a:ea typeface="宋体"/>
              </a:rPr>
              <a:t>是记述的意思，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“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  <a:ea typeface="宋体"/>
              </a:rPr>
              <a:t>异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”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  <a:ea typeface="宋体"/>
              </a:rPr>
              <a:t>指奇异的故事。《聊斋志异》有短篇小说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491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  <a:ea typeface="宋体"/>
              </a:rPr>
              <a:t>篇。题材大多来自民间和下层知识分子的传说。多数故事通过描写妖狐神鬼来反映现实的社会生活。有的揭露封建官府的黑暗，有的批判科举制度的弊病，有的表现青年男女冲破封建礼教、争取婚姻自由的思想，在一定程度上揭露了社会矛盾，表达了人民的愿望。但其中也夹杂着封建伦理和因果报应思想。《聊斋志异》的语言简练，描写细腻，人物形象鲜明，故事情节生动，具有较高的艺术成就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人教版，九年制义务教育语文初中第一册教参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93A5D-1114-433B-868B-5696AE16827E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宋体"/>
                <a:ea typeface="宋体"/>
              </a:rPr>
              <a:t>《聊斋志异》是蒲松龄的代表作，在他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40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  <a:ea typeface="宋体"/>
              </a:rPr>
              <a:t>岁左右已基本完成，此后不断有所增补和修改，是他一生心血的结晶，也是他的文学创作的最高成就。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“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  <a:ea typeface="宋体"/>
              </a:rPr>
              <a:t>聊斋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”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  <a:ea typeface="宋体"/>
              </a:rPr>
              <a:t>是他的书屋名称，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“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  <a:ea typeface="宋体"/>
              </a:rPr>
              <a:t>志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”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  <a:ea typeface="宋体"/>
              </a:rPr>
              <a:t>是记述的意思，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“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  <a:ea typeface="宋体"/>
              </a:rPr>
              <a:t>异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”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  <a:ea typeface="宋体"/>
              </a:rPr>
              <a:t>指奇异的故事。《聊斋志异》有短篇小说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491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  <a:ea typeface="宋体"/>
              </a:rPr>
              <a:t>篇。题材大多来自民间和下层知识分子的传说。多数故事通过描写妖狐神鬼来反映现实的社会生活。有的揭露封建官府的黑暗，有的批判科举制度的弊病，有的表现青年男女冲破封建礼教、争取婚姻自由的思想，在一定程度上揭露了社会矛盾，表达了人民的愿望。但其中也夹杂着封建伦理和因果报应思想。《聊斋志异》的语言简练，描写细腻，人物形象鲜明，故事情节生动，具有较高的艺术成就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417E4-E548-4FA5-9D0F-E51B1647F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479E4-F522-4923-9EB2-B4D940E9A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D063B-AEAC-4B30-8E3A-8828176B8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B2A13-C2F7-4035-AEAF-85B8D194E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F4FCE-DADC-48CB-9C7F-4341C3AF4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C93BF-0A09-4F36-A65A-718D13978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DFD9C-342A-4716-A715-B55FF65FB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EECC3-53DC-4132-A0D7-FB55571D7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3E373-90AA-4668-8F70-2D6251056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C35BA-A488-43BE-BB34-E634A8CA2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2D525-7013-474C-A701-6D8F0B91F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AB7EA-E097-4C6E-A44A-727608D05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C5FA4-DA20-4DC9-800A-8B754B67BA5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audio" Target="../media/&#29436;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&#29436;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&#29436;.WAV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&#29436;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&#29436;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&#29436;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&#29436;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&#29436;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&#29436;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&#29436;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&#29436;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&#29436;.WAV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&#29436;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&#29436;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&#29436;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audio" Target="../media/&#29436;.WAV"/><Relationship Id="rId3" Type="http://schemas.openxmlformats.org/officeDocument/2006/relationships/audio" Target="../media/laser.wav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&#29436;.WAV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audio" Target="../media/&#29436;.WAV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audio" Target="../media/&#29436;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audio" Target="../media/&#29436;.WAV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audio" Target="../media/&#29436;.WAV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audio" Target="../media/&#29436;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&#29436;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cnun.com/cartoon/fm/fm-14.htm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netrogue.myetang.com/son/xiao/pic/jingjv.htm" TargetMode="External"/><Relationship Id="rId4" Type="http://schemas.openxmlformats.org/officeDocument/2006/relationships/image" Target="../media/image5.jpeg"/><Relationship Id="rId5" Type="http://schemas.openxmlformats.org/officeDocument/2006/relationships/audio" Target="../media/&#29436;.WAV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opengm.com/~cw/tea/wenhua/huihua/xianhua.htm" TargetMode="External"/><Relationship Id="rId2" Type="http://schemas.openxmlformats.org/officeDocument/2006/relationships/image" Target="../media/image6.jpeg"/><Relationship Id="rId3" Type="http://schemas.openxmlformats.org/officeDocument/2006/relationships/audio" Target="../media/&#29436;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&#29436;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&#29436;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&#29436;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0000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楷体"/>
                <a:ea typeface="楷体"/>
              </a:rPr>
              <a:t>    </a:t>
            </a:r>
            <a:r>
              <a:rPr b="1" lang="zh-CN" sz="4400" spc="-1" strike="noStrike">
                <a:solidFill>
                  <a:srgbClr val="ff0000"/>
                </a:solidFill>
                <a:latin typeface="楷体"/>
                <a:ea typeface="楷体"/>
              </a:rPr>
              <a:t>无论在日常生活中，还是在艺术作品里，有关狼的话题可不少，这是因为一切 野生动物中，就数狼跟人的关系最密切了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0000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楷体"/>
                <a:ea typeface="楷体"/>
              </a:rPr>
              <a:t>    </a:t>
            </a:r>
            <a:r>
              <a:rPr b="1" lang="zh-CN" sz="4400" spc="-1" strike="noStrike">
                <a:solidFill>
                  <a:srgbClr val="ff0000"/>
                </a:solidFill>
                <a:latin typeface="楷体"/>
                <a:ea typeface="楷体"/>
              </a:rPr>
              <a:t>在蒙古和北美的印第安人中间，关于狼的神话和传说最为丰富，它们常被描绘 成性情“凶残”、“狡猾”的家伙；在西欧神话里，最强大、最凶悍的神也就是 “狼神”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  <p:sndAc>
      <p:stSnd>
        <p:snd r:embed="rId2" name="%E7%8B%BC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0"/>
                            </p:stCondLst>
                            <p:childTnLst>
                              <p:par>
                                <p:cTn id="10" nodeType="afterEffect" fill="hold" presetClass="entr" presetID="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三、译文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一</a:t>
            </a:r>
            <a:r>
              <a:rPr b="1" lang="zh-CN" sz="48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屠</a:t>
            </a:r>
            <a:r>
              <a:rPr b="1" lang="zh-CN" sz="4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晚归，担中肉尽，</a:t>
            </a:r>
            <a:r>
              <a:rPr b="1" lang="zh-CN" sz="48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止</a:t>
            </a:r>
            <a:r>
              <a:rPr b="1" lang="zh-CN" sz="4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剩骨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028"/>
          <p:cNvSpPr/>
          <p:nvPr/>
        </p:nvSpPr>
        <p:spPr>
          <a:xfrm>
            <a:off x="798480" y="3052800"/>
            <a:ext cx="22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幼圆"/>
                <a:ea typeface="幼圆"/>
              </a:rPr>
              <a:t>有个屠户天晚回家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030"/>
          <p:cNvSpPr/>
          <p:nvPr/>
        </p:nvSpPr>
        <p:spPr>
          <a:xfrm>
            <a:off x="914400" y="220968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屠夫，宰杀牲畜卖肉的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031"/>
          <p:cNvSpPr/>
          <p:nvPr/>
        </p:nvSpPr>
        <p:spPr>
          <a:xfrm>
            <a:off x="533520" y="5276880"/>
            <a:ext cx="171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幼圆"/>
                <a:ea typeface="幼圆"/>
              </a:rPr>
              <a:t>剩下的骨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032"/>
          <p:cNvSpPr/>
          <p:nvPr/>
        </p:nvSpPr>
        <p:spPr>
          <a:xfrm>
            <a:off x="3492360" y="303840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幼圆"/>
                <a:ea typeface="幼圆"/>
              </a:rPr>
              <a:t>担子里的肉已经卖完了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033"/>
          <p:cNvSpPr/>
          <p:nvPr/>
        </p:nvSpPr>
        <p:spPr>
          <a:xfrm>
            <a:off x="6670800" y="2971800"/>
            <a:ext cx="79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幼圆"/>
                <a:ea typeface="幼圆"/>
              </a:rPr>
              <a:t>只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034"/>
          <p:cNvSpPr/>
          <p:nvPr/>
        </p:nvSpPr>
        <p:spPr>
          <a:xfrm>
            <a:off x="6629400" y="2362320"/>
            <a:ext cx="15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同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只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  <p:sndAc>
      <p:stSnd>
        <p:snd r:embed="rId1" name="%E7%8B%BC.WAV"/>
      </p:stSnd>
    </p:sndAc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6600" spc="-1" strike="noStrike">
              <a:solidFill>
                <a:srgbClr val="000000"/>
              </a:solidFill>
              <a:latin typeface="华文新魏"/>
              <a:ea typeface="华文新魏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46040" y="155736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华文新魏"/>
                <a:ea typeface="华文新魏"/>
              </a:rPr>
              <a:t>途中两狼，</a:t>
            </a:r>
            <a:r>
              <a:rPr b="1" lang="zh-CN" sz="48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缀</a:t>
            </a:r>
            <a:r>
              <a:rPr b="1" lang="zh-CN" sz="4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行甚远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屠</a:t>
            </a:r>
            <a:r>
              <a:rPr b="1" lang="zh-CN" sz="48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惧</a:t>
            </a:r>
            <a:r>
              <a:rPr b="1" lang="zh-CN" sz="4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投</a:t>
            </a:r>
            <a:r>
              <a:rPr b="1" lang="zh-CN" sz="48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以</a:t>
            </a:r>
            <a:r>
              <a:rPr b="1" lang="zh-CN" sz="4800" spc="-1" strike="noStrike">
                <a:solidFill>
                  <a:srgbClr val="000000"/>
                </a:solidFill>
                <a:latin typeface="华文新魏"/>
                <a:ea typeface="华文新魏"/>
              </a:rPr>
              <a:t>骨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684360" y="3284640"/>
            <a:ext cx="614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路上遇到两只狼，紧随着走了很远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7"/>
          <p:cNvSpPr/>
          <p:nvPr/>
        </p:nvSpPr>
        <p:spPr>
          <a:xfrm>
            <a:off x="539640" y="5516640"/>
            <a:ext cx="614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屠户害怕了，拿起一块骨头扔过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0"/>
          <p:cNvSpPr/>
          <p:nvPr/>
        </p:nvSpPr>
        <p:spPr>
          <a:xfrm>
            <a:off x="3851280" y="126828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h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Group 15"/>
          <p:cNvGrpSpPr/>
          <p:nvPr/>
        </p:nvGrpSpPr>
        <p:grpSpPr>
          <a:xfrm>
            <a:off x="3348000" y="2349360"/>
            <a:ext cx="1800360" cy="936720"/>
            <a:chOff x="3348000" y="2349360"/>
            <a:chExt cx="1800360" cy="936720"/>
          </a:xfrm>
        </p:grpSpPr>
        <p:sp>
          <p:nvSpPr>
            <p:cNvPr id="100" name="AutoShape 14"/>
            <p:cNvSpPr/>
            <p:nvPr/>
          </p:nvSpPr>
          <p:spPr>
            <a:xfrm>
              <a:off x="3348000" y="2349360"/>
              <a:ext cx="1800360" cy="936720"/>
            </a:xfrm>
            <a:prstGeom prst="wedgeRoundRectCallout">
              <a:avLst>
                <a:gd name="adj1" fmla="val 879"/>
                <a:gd name="adj2" fmla="val -67796"/>
                <a:gd name="adj3" fmla="val 16667"/>
              </a:avLst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Text Box 6"/>
            <p:cNvSpPr/>
            <p:nvPr/>
          </p:nvSpPr>
          <p:spPr>
            <a:xfrm>
              <a:off x="3419640" y="2421000"/>
              <a:ext cx="172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</a:rPr>
                <a:t>连结，这里是紧跟的意思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" name="Group 17"/>
          <p:cNvGrpSpPr/>
          <p:nvPr/>
        </p:nvGrpSpPr>
        <p:grpSpPr>
          <a:xfrm>
            <a:off x="1332000" y="5084640"/>
            <a:ext cx="1152360" cy="520560"/>
            <a:chOff x="1332000" y="5084640"/>
            <a:chExt cx="1152360" cy="520560"/>
          </a:xfrm>
        </p:grpSpPr>
        <p:sp>
          <p:nvSpPr>
            <p:cNvPr id="103" name="AutoShape 16"/>
            <p:cNvSpPr/>
            <p:nvPr/>
          </p:nvSpPr>
          <p:spPr>
            <a:xfrm>
              <a:off x="1332000" y="5084640"/>
              <a:ext cx="1152360" cy="504000"/>
            </a:xfrm>
            <a:prstGeom prst="wedgeEllipseCallout">
              <a:avLst>
                <a:gd name="adj1" fmla="val -14736"/>
                <a:gd name="adj2" fmla="val -82106"/>
              </a:avLst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Text Box 8"/>
            <p:cNvSpPr/>
            <p:nvPr/>
          </p:nvSpPr>
          <p:spPr>
            <a:xfrm>
              <a:off x="1476360" y="5084640"/>
              <a:ext cx="934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害怕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Group 19"/>
          <p:cNvGrpSpPr/>
          <p:nvPr/>
        </p:nvGrpSpPr>
        <p:grpSpPr>
          <a:xfrm>
            <a:off x="3203640" y="5013360"/>
            <a:ext cx="1152360" cy="520560"/>
            <a:chOff x="3203640" y="5013360"/>
            <a:chExt cx="1152360" cy="520560"/>
          </a:xfrm>
        </p:grpSpPr>
        <p:sp>
          <p:nvSpPr>
            <p:cNvPr id="106" name="AutoShape 20"/>
            <p:cNvSpPr/>
            <p:nvPr/>
          </p:nvSpPr>
          <p:spPr>
            <a:xfrm>
              <a:off x="3203640" y="5013360"/>
              <a:ext cx="1152360" cy="504000"/>
            </a:xfrm>
            <a:prstGeom prst="wedgeEllipseCallout">
              <a:avLst>
                <a:gd name="adj1" fmla="val -14736"/>
                <a:gd name="adj2" fmla="val -82106"/>
              </a:avLst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Text Box 21"/>
            <p:cNvSpPr/>
            <p:nvPr/>
          </p:nvSpPr>
          <p:spPr>
            <a:xfrm>
              <a:off x="3348000" y="5013360"/>
              <a:ext cx="934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用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random/>
    <p:sndAc>
      <p:stSnd>
        <p:snd r:embed="rId1" name="%E7%8B%BC.WAV"/>
      </p:stSnd>
    </p:sndAc>
  </p:transition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250920" y="155736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一狼得骨止，一狼仍</a:t>
            </a:r>
            <a:r>
              <a:rPr b="1" lang="zh-CN" sz="48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从</a:t>
            </a:r>
            <a:r>
              <a:rPr b="1" lang="zh-CN" sz="4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复投之，后狼止而前狼又至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4"/>
          <p:cNvSpPr/>
          <p:nvPr/>
        </p:nvSpPr>
        <p:spPr>
          <a:xfrm>
            <a:off x="826920" y="2276640"/>
            <a:ext cx="310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一只狼得到骨头停下了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5"/>
          <p:cNvSpPr/>
          <p:nvPr/>
        </p:nvSpPr>
        <p:spPr>
          <a:xfrm>
            <a:off x="3276720" y="4221000"/>
            <a:ext cx="5105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后得到骨头的那只狼停下了，可是先得到骨头的那只狼又跟上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6"/>
          <p:cNvSpPr/>
          <p:nvPr/>
        </p:nvSpPr>
        <p:spPr>
          <a:xfrm>
            <a:off x="6084720" y="2205000"/>
            <a:ext cx="106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跟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7"/>
          <p:cNvSpPr/>
          <p:nvPr/>
        </p:nvSpPr>
        <p:spPr>
          <a:xfrm>
            <a:off x="4500720" y="2781360"/>
            <a:ext cx="36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另一只狼仍然跟着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8"/>
          <p:cNvSpPr/>
          <p:nvPr/>
        </p:nvSpPr>
        <p:spPr>
          <a:xfrm>
            <a:off x="468360" y="4149720"/>
            <a:ext cx="3166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屠户又拿起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块骨头扔过去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  <p:sndAc>
      <p:stSnd>
        <p:snd r:embed="rId1" name="%E7%8B%BC.WAV"/>
      </p:stSnd>
    </p:sndAc>
  </p:transition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6600" spc="-1" strike="noStrike">
              <a:solidFill>
                <a:srgbClr val="000000"/>
              </a:solidFill>
              <a:latin typeface="华文新魏"/>
              <a:ea typeface="华文新魏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骨已尽矣，而两狼之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并</a:t>
            </a:r>
            <a:r>
              <a:rPr b="1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驱如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故</a:t>
            </a:r>
            <a:r>
              <a:rPr b="1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屠大</a:t>
            </a:r>
            <a:r>
              <a:rPr b="1" lang="zh-CN" sz="48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窘</a:t>
            </a:r>
            <a:r>
              <a:rPr b="1" lang="zh-CN" sz="4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恐前后受其</a:t>
            </a:r>
            <a:r>
              <a:rPr b="1" lang="zh-CN" sz="48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敌</a:t>
            </a:r>
            <a:r>
              <a:rPr b="1" lang="zh-CN" sz="4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4"/>
          <p:cNvSpPr/>
          <p:nvPr/>
        </p:nvSpPr>
        <p:spPr>
          <a:xfrm>
            <a:off x="5179680" y="2924280"/>
            <a:ext cx="139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两只狼像原来一样一起追赶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5"/>
          <p:cNvSpPr/>
          <p:nvPr/>
        </p:nvSpPr>
        <p:spPr>
          <a:xfrm>
            <a:off x="3352680" y="5029200"/>
            <a:ext cx="464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恐怕前后一起受到狼的攻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826920" y="242100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骨头已经扔完了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846000" y="5029200"/>
            <a:ext cx="243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屠户非常紧张为难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8"/>
          <p:cNvSpPr/>
          <p:nvPr/>
        </p:nvSpPr>
        <p:spPr>
          <a:xfrm>
            <a:off x="1699560" y="45086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紧张为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9"/>
          <p:cNvSpPr/>
          <p:nvPr/>
        </p:nvSpPr>
        <p:spPr>
          <a:xfrm>
            <a:off x="5878800" y="443700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胁迫，攻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0"/>
          <p:cNvSpPr/>
          <p:nvPr/>
        </p:nvSpPr>
        <p:spPr>
          <a:xfrm>
            <a:off x="5549400" y="227664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一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1"/>
          <p:cNvSpPr/>
          <p:nvPr/>
        </p:nvSpPr>
        <p:spPr>
          <a:xfrm>
            <a:off x="7242480" y="234936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原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  <p:sndAc>
      <p:stSnd>
        <p:snd r:embed="rId1" name="%E7%8B%BC.WAV"/>
      </p:stSnd>
    </p:sndAc>
  </p:transition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6600" spc="-1" strike="noStrike">
              <a:solidFill>
                <a:srgbClr val="000000"/>
              </a:solidFill>
              <a:latin typeface="华文新魏"/>
              <a:ea typeface="华文新魏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-360" y="1600200"/>
            <a:ext cx="8893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顾</a:t>
            </a:r>
            <a:r>
              <a:rPr b="1" lang="zh-CN" sz="4800" spc="-1" strike="noStrike">
                <a:solidFill>
                  <a:srgbClr val="000000"/>
                </a:solidFill>
                <a:latin typeface="华文新魏"/>
                <a:ea typeface="华文新魏"/>
              </a:rPr>
              <a:t>野有</a:t>
            </a:r>
            <a:r>
              <a:rPr b="1" lang="zh-CN" sz="48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麦场</a:t>
            </a:r>
            <a:r>
              <a:rPr b="1" lang="zh-CN" sz="4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场主</a:t>
            </a:r>
            <a:r>
              <a:rPr b="1" lang="zh-CN" sz="48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积薪</a:t>
            </a:r>
            <a:r>
              <a:rPr b="1" lang="zh-CN" sz="4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其中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</a:t>
            </a:r>
            <a:r>
              <a:rPr b="1" lang="zh-CN" sz="48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苫蔽</a:t>
            </a:r>
            <a:r>
              <a:rPr b="1" lang="zh-CN" sz="4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成丘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4"/>
          <p:cNvSpPr/>
          <p:nvPr/>
        </p:nvSpPr>
        <p:spPr>
          <a:xfrm>
            <a:off x="468360" y="3141720"/>
            <a:ext cx="48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看见野地里有一个打麦场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5"/>
          <p:cNvSpPr/>
          <p:nvPr/>
        </p:nvSpPr>
        <p:spPr>
          <a:xfrm>
            <a:off x="4859280" y="3141720"/>
            <a:ext cx="38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场主人把柴草堆在打麦场里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6"/>
          <p:cNvSpPr/>
          <p:nvPr/>
        </p:nvSpPr>
        <p:spPr>
          <a:xfrm>
            <a:off x="1835280" y="501336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覆盖成小山似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296280" y="24210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环顾四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8"/>
          <p:cNvSpPr/>
          <p:nvPr/>
        </p:nvSpPr>
        <p:spPr>
          <a:xfrm>
            <a:off x="2412720" y="249228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打麦子的场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9"/>
          <p:cNvSpPr/>
          <p:nvPr/>
        </p:nvSpPr>
        <p:spPr>
          <a:xfrm>
            <a:off x="5724720" y="234936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堆柴草（麦秸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10"/>
          <p:cNvSpPr/>
          <p:nvPr/>
        </p:nvSpPr>
        <p:spPr>
          <a:xfrm>
            <a:off x="1980720" y="450864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覆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11"/>
          <p:cNvSpPr/>
          <p:nvPr/>
        </p:nvSpPr>
        <p:spPr>
          <a:xfrm>
            <a:off x="3204720" y="450864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遮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  <p:sndAc>
      <p:stSnd>
        <p:snd r:embed="rId1" name="%E7%8B%BC.WAV"/>
      </p:stSnd>
    </p:sndAc>
  </p:transition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000000"/>
              </a:solidFill>
              <a:latin typeface="华文新魏"/>
              <a:ea typeface="华文新魏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-181080" y="1600200"/>
            <a:ext cx="9793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屠</a:t>
            </a:r>
            <a:r>
              <a:rPr b="1" lang="zh-CN" sz="48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乃</a:t>
            </a:r>
            <a:r>
              <a:rPr b="1" lang="zh-CN" sz="4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</a:t>
            </a:r>
            <a:r>
              <a:rPr b="1" lang="zh-CN" sz="48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奔</a:t>
            </a:r>
            <a:r>
              <a:rPr b="1" lang="zh-CN" sz="4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</a:t>
            </a:r>
            <a:r>
              <a:rPr b="1" lang="zh-CN" sz="48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倚</a:t>
            </a:r>
            <a:r>
              <a:rPr b="1" lang="zh-CN" sz="4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</a:t>
            </a:r>
            <a:r>
              <a:rPr b="1" lang="zh-CN" sz="48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其</a:t>
            </a:r>
            <a:r>
              <a:rPr b="1" lang="zh-CN" sz="4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下，</a:t>
            </a:r>
            <a:r>
              <a:rPr b="1" lang="zh-CN" sz="48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弛</a:t>
            </a:r>
            <a:r>
              <a:rPr b="1" lang="zh-CN" sz="4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担持刀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狼不敢前，</a:t>
            </a:r>
            <a:r>
              <a:rPr b="1" lang="zh-CN" sz="48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眈眈</a:t>
            </a:r>
            <a:r>
              <a:rPr b="1" lang="zh-CN" sz="4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相向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4"/>
          <p:cNvSpPr/>
          <p:nvPr/>
        </p:nvSpPr>
        <p:spPr>
          <a:xfrm>
            <a:off x="539640" y="306864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屠户于是奔过去倚靠在柴草堆下面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5"/>
          <p:cNvSpPr/>
          <p:nvPr/>
        </p:nvSpPr>
        <p:spPr>
          <a:xfrm>
            <a:off x="6084720" y="314172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放下担子拿起屠刀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6"/>
          <p:cNvSpPr/>
          <p:nvPr/>
        </p:nvSpPr>
        <p:spPr>
          <a:xfrm>
            <a:off x="611280" y="5013360"/>
            <a:ext cx="262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两只狼都不敢向前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7"/>
          <p:cNvSpPr/>
          <p:nvPr/>
        </p:nvSpPr>
        <p:spPr>
          <a:xfrm>
            <a:off x="4678560" y="544500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瞪眼朝着屠户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8"/>
          <p:cNvSpPr/>
          <p:nvPr/>
        </p:nvSpPr>
        <p:spPr>
          <a:xfrm>
            <a:off x="905040" y="234936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于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2271600" y="234936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10"/>
          <p:cNvSpPr/>
          <p:nvPr/>
        </p:nvSpPr>
        <p:spPr>
          <a:xfrm>
            <a:off x="3351600" y="227664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倚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11"/>
          <p:cNvSpPr/>
          <p:nvPr/>
        </p:nvSpPr>
        <p:spPr>
          <a:xfrm>
            <a:off x="4500720" y="2349360"/>
            <a:ext cx="158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代词，指柴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2"/>
          <p:cNvSpPr/>
          <p:nvPr/>
        </p:nvSpPr>
        <p:spPr>
          <a:xfrm>
            <a:off x="6591600" y="24210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放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13"/>
          <p:cNvSpPr/>
          <p:nvPr/>
        </p:nvSpPr>
        <p:spPr>
          <a:xfrm>
            <a:off x="3642840" y="494172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注视的样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  <p:sndAc>
      <p:stSnd>
        <p:snd r:embed="rId1" name="%E7%8B%BC.WAV"/>
      </p:stSnd>
    </p:sndAc>
  </p:transition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1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6600" spc="-1" strike="noStrike">
              <a:solidFill>
                <a:srgbClr val="000000"/>
              </a:solidFill>
              <a:latin typeface="华文新魏"/>
              <a:ea typeface="华文新魏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896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少</a:t>
            </a:r>
            <a:r>
              <a:rPr b="1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时，一狼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径</a:t>
            </a:r>
            <a:r>
              <a:rPr b="1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去，其一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犬</a:t>
            </a:r>
            <a:r>
              <a:rPr b="1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坐于前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久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之</a:t>
            </a:r>
            <a:r>
              <a:rPr b="1" lang="zh-CN" sz="4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目似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瞑</a:t>
            </a:r>
            <a:r>
              <a:rPr b="1" lang="zh-CN" sz="4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意</a:t>
            </a:r>
            <a:r>
              <a:rPr b="1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暇</a:t>
            </a:r>
            <a:r>
              <a:rPr b="1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甚</a:t>
            </a:r>
            <a:r>
              <a:rPr b="1" lang="zh-CN" sz="4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4"/>
          <p:cNvSpPr/>
          <p:nvPr/>
        </p:nvSpPr>
        <p:spPr>
          <a:xfrm>
            <a:off x="457200" y="272088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过了一会儿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5"/>
          <p:cNvSpPr/>
          <p:nvPr/>
        </p:nvSpPr>
        <p:spPr>
          <a:xfrm>
            <a:off x="4800600" y="5205240"/>
            <a:ext cx="259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神情悠闲得很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6"/>
          <p:cNvSpPr/>
          <p:nvPr/>
        </p:nvSpPr>
        <p:spPr>
          <a:xfrm>
            <a:off x="2438280" y="278748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只狼径直走开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7"/>
          <p:cNvSpPr/>
          <p:nvPr/>
        </p:nvSpPr>
        <p:spPr>
          <a:xfrm>
            <a:off x="5105520" y="2787480"/>
            <a:ext cx="350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另一只狼像狗似的蹲坐在前面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8"/>
          <p:cNvSpPr/>
          <p:nvPr/>
        </p:nvSpPr>
        <p:spPr>
          <a:xfrm>
            <a:off x="457200" y="5205240"/>
            <a:ext cx="191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时间长了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9"/>
          <p:cNvSpPr/>
          <p:nvPr/>
        </p:nvSpPr>
        <p:spPr>
          <a:xfrm>
            <a:off x="2362320" y="5226120"/>
            <a:ext cx="243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那只狼的眼睛似乎闭上了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0"/>
          <p:cNvSpPr/>
          <p:nvPr/>
        </p:nvSpPr>
        <p:spPr>
          <a:xfrm>
            <a:off x="380880" y="2057400"/>
            <a:ext cx="159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一会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11"/>
          <p:cNvSpPr/>
          <p:nvPr/>
        </p:nvSpPr>
        <p:spPr>
          <a:xfrm>
            <a:off x="3200400" y="200664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径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12"/>
          <p:cNvSpPr/>
          <p:nvPr/>
        </p:nvSpPr>
        <p:spPr>
          <a:xfrm>
            <a:off x="5791320" y="2019240"/>
            <a:ext cx="167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像狗那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13"/>
          <p:cNvSpPr/>
          <p:nvPr/>
        </p:nvSpPr>
        <p:spPr>
          <a:xfrm>
            <a:off x="457200" y="4359240"/>
            <a:ext cx="245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调解音节，没有实在含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14"/>
          <p:cNvSpPr/>
          <p:nvPr/>
        </p:nvSpPr>
        <p:spPr>
          <a:xfrm>
            <a:off x="3429000" y="434340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闭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15"/>
          <p:cNvSpPr/>
          <p:nvPr/>
        </p:nvSpPr>
        <p:spPr>
          <a:xfrm>
            <a:off x="4572000" y="4365720"/>
            <a:ext cx="10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神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16"/>
          <p:cNvSpPr/>
          <p:nvPr/>
        </p:nvSpPr>
        <p:spPr>
          <a:xfrm>
            <a:off x="5651640" y="4365720"/>
            <a:ext cx="121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悠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7"/>
          <p:cNvSpPr/>
          <p:nvPr/>
        </p:nvSpPr>
        <p:spPr>
          <a:xfrm>
            <a:off x="6804000" y="436572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非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  <p:sndAc>
      <p:stSnd>
        <p:snd r:embed="rId1" name="%E7%8B%BC.WAV"/>
      </p:stSnd>
    </p:sndAc>
  </p:transition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3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3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8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3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3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8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6600" spc="-1" strike="noStrike">
              <a:solidFill>
                <a:srgbClr val="000000"/>
              </a:solidFill>
              <a:latin typeface="华文新魏"/>
              <a:ea typeface="华文新魏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屠</a:t>
            </a:r>
            <a:r>
              <a:rPr b="1" lang="zh-CN" sz="48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暴</a:t>
            </a:r>
            <a:r>
              <a:rPr b="1" lang="zh-CN" sz="4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起，</a:t>
            </a:r>
            <a:r>
              <a:rPr b="1" lang="zh-CN" sz="48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以</a:t>
            </a:r>
            <a:r>
              <a:rPr b="1" lang="zh-CN" sz="4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刀劈狼首，又</a:t>
            </a:r>
            <a:r>
              <a:rPr b="1" lang="zh-CN" sz="48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数</a:t>
            </a:r>
            <a:br>
              <a:rPr sz="4800"/>
            </a:br>
            <a:br>
              <a:rPr sz="4800"/>
            </a:br>
            <a:br>
              <a:rPr sz="4800"/>
            </a:br>
            <a:r>
              <a:rPr b="1" lang="zh-CN" sz="4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刀</a:t>
            </a:r>
            <a:r>
              <a:rPr b="1" lang="zh-CN" sz="48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毙</a:t>
            </a:r>
            <a:r>
              <a:rPr b="1" lang="zh-CN" sz="4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之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4"/>
          <p:cNvSpPr/>
          <p:nvPr/>
        </p:nvSpPr>
        <p:spPr>
          <a:xfrm>
            <a:off x="1447920" y="2362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突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5"/>
          <p:cNvSpPr/>
          <p:nvPr/>
        </p:nvSpPr>
        <p:spPr>
          <a:xfrm>
            <a:off x="3276720" y="2362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6"/>
          <p:cNvSpPr/>
          <p:nvPr/>
        </p:nvSpPr>
        <p:spPr>
          <a:xfrm>
            <a:off x="7620120" y="2362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7"/>
          <p:cNvSpPr/>
          <p:nvPr/>
        </p:nvSpPr>
        <p:spPr>
          <a:xfrm>
            <a:off x="1523880" y="449568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杀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9"/>
          <p:cNvSpPr/>
          <p:nvPr/>
        </p:nvSpPr>
        <p:spPr>
          <a:xfrm>
            <a:off x="838080" y="289548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屠户突然跳起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10"/>
          <p:cNvSpPr/>
          <p:nvPr/>
        </p:nvSpPr>
        <p:spPr>
          <a:xfrm>
            <a:off x="3852720" y="290052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用刀劈狼的脑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11"/>
          <p:cNvSpPr/>
          <p:nvPr/>
        </p:nvSpPr>
        <p:spPr>
          <a:xfrm>
            <a:off x="7124400" y="28954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又连砍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12"/>
          <p:cNvSpPr/>
          <p:nvPr/>
        </p:nvSpPr>
        <p:spPr>
          <a:xfrm>
            <a:off x="1235880" y="528804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刀把狼杀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  <p:sndAc>
      <p:stSnd>
        <p:snd r:embed="rId1" name="%E7%8B%BC.WAV"/>
      </p:stSnd>
    </p:sndAc>
  </p:transition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0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5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0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5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6600" spc="-1" strike="noStrike">
              <a:solidFill>
                <a:srgbClr val="000000"/>
              </a:solidFill>
              <a:latin typeface="华文新魏"/>
              <a:ea typeface="华文新魏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0" y="167652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方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 欲 行，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转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视积薪后，一狼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1" lang="zh-CN" sz="40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洞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其中，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意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将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隧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入以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攻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其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后也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4"/>
          <p:cNvSpPr/>
          <p:nvPr/>
        </p:nvSpPr>
        <p:spPr>
          <a:xfrm>
            <a:off x="395280" y="220500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正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5"/>
          <p:cNvSpPr/>
          <p:nvPr/>
        </p:nvSpPr>
        <p:spPr>
          <a:xfrm>
            <a:off x="2700360" y="220500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转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6"/>
          <p:cNvSpPr/>
          <p:nvPr/>
        </p:nvSpPr>
        <p:spPr>
          <a:xfrm>
            <a:off x="395280" y="378936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打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7"/>
          <p:cNvSpPr/>
          <p:nvPr/>
        </p:nvSpPr>
        <p:spPr>
          <a:xfrm>
            <a:off x="2340000" y="378936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企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8"/>
          <p:cNvSpPr/>
          <p:nvPr/>
        </p:nvSpPr>
        <p:spPr>
          <a:xfrm>
            <a:off x="3492360" y="386064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钻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9"/>
          <p:cNvSpPr/>
          <p:nvPr/>
        </p:nvSpPr>
        <p:spPr>
          <a:xfrm>
            <a:off x="4932360" y="386064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攻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10"/>
          <p:cNvSpPr/>
          <p:nvPr/>
        </p:nvSpPr>
        <p:spPr>
          <a:xfrm>
            <a:off x="5651640" y="3860640"/>
            <a:ext cx="223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他，指屠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11"/>
          <p:cNvSpPr/>
          <p:nvPr/>
        </p:nvSpPr>
        <p:spPr>
          <a:xfrm>
            <a:off x="395280" y="2637000"/>
            <a:ext cx="24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屠户正要上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12"/>
          <p:cNvSpPr/>
          <p:nvPr/>
        </p:nvSpPr>
        <p:spPr>
          <a:xfrm>
            <a:off x="3132000" y="263700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转到柴草堆后面一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13"/>
          <p:cNvSpPr/>
          <p:nvPr/>
        </p:nvSpPr>
        <p:spPr>
          <a:xfrm>
            <a:off x="6588000" y="2276640"/>
            <a:ext cx="152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只见另一只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14"/>
          <p:cNvSpPr/>
          <p:nvPr/>
        </p:nvSpPr>
        <p:spPr>
          <a:xfrm>
            <a:off x="468360" y="450864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正在柴草堆里打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5"/>
          <p:cNvSpPr/>
          <p:nvPr/>
        </p:nvSpPr>
        <p:spPr>
          <a:xfrm>
            <a:off x="2771640" y="4365720"/>
            <a:ext cx="495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想要钻过去从背后对屠户进行攻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  <p:sndAc>
      <p:stSnd>
        <p:snd r:embed="rId1" name="%E7%8B%BC.WAV"/>
      </p:stSnd>
    </p:sndAc>
  </p:transition>
  <p:timing>
    <p:tnLst>
      <p:par>
        <p:cTn id="551" dur="indefinite" restart="never" nodeType="tmRoot">
          <p:childTnLst>
            <p:seq>
              <p:cTn id="552" dur="indefinite" nodeType="mainSeq">
                <p:childTnLst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2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7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2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2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2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2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7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2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身已半入，</a:t>
            </a:r>
            <a:r>
              <a:rPr b="1" lang="zh-CN" sz="48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止</a:t>
            </a:r>
            <a:r>
              <a:rPr b="1" lang="zh-CN" sz="4800" spc="-1" strike="noStrike">
                <a:solidFill>
                  <a:srgbClr val="000000"/>
                </a:solidFill>
                <a:latin typeface="华文新魏"/>
                <a:ea typeface="华文新魏"/>
              </a:rPr>
              <a:t>露</a:t>
            </a:r>
            <a:r>
              <a:rPr b="1" lang="zh-CN" sz="48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尻</a:t>
            </a:r>
            <a:r>
              <a:rPr b="1" lang="zh-CN" sz="4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尾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屠</a:t>
            </a:r>
            <a:r>
              <a:rPr b="1" lang="zh-CN" sz="48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自</a:t>
            </a:r>
            <a:r>
              <a:rPr b="1" lang="zh-CN" sz="4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后断其</a:t>
            </a:r>
            <a:r>
              <a:rPr b="1" lang="zh-CN" sz="48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股</a:t>
            </a:r>
            <a:r>
              <a:rPr b="1" lang="zh-CN" sz="4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亦</a:t>
            </a:r>
            <a:r>
              <a:rPr b="1" lang="zh-CN" sz="48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毙</a:t>
            </a:r>
            <a:r>
              <a:rPr b="1" lang="zh-CN" sz="4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之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3419640" y="2438280"/>
            <a:ext cx="145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同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只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5"/>
          <p:cNvSpPr/>
          <p:nvPr/>
        </p:nvSpPr>
        <p:spPr>
          <a:xfrm>
            <a:off x="5105520" y="243828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屁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6"/>
          <p:cNvSpPr/>
          <p:nvPr/>
        </p:nvSpPr>
        <p:spPr>
          <a:xfrm>
            <a:off x="1600200" y="495288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7"/>
          <p:cNvSpPr/>
          <p:nvPr/>
        </p:nvSpPr>
        <p:spPr>
          <a:xfrm>
            <a:off x="3886200" y="495288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大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8"/>
          <p:cNvSpPr/>
          <p:nvPr/>
        </p:nvSpPr>
        <p:spPr>
          <a:xfrm>
            <a:off x="5638680" y="4952880"/>
            <a:ext cx="106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杀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9"/>
          <p:cNvSpPr/>
          <p:nvPr/>
        </p:nvSpPr>
        <p:spPr>
          <a:xfrm>
            <a:off x="990720" y="320040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狼的身子已经钻进一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10"/>
          <p:cNvSpPr/>
          <p:nvPr/>
        </p:nvSpPr>
        <p:spPr>
          <a:xfrm>
            <a:off x="3809880" y="3200400"/>
            <a:ext cx="396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只有屁股和尾巴露在外面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1"/>
          <p:cNvSpPr/>
          <p:nvPr/>
        </p:nvSpPr>
        <p:spPr>
          <a:xfrm>
            <a:off x="914400" y="5334120"/>
            <a:ext cx="36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屠户从后面砍断了狼的后腿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12"/>
          <p:cNvSpPr/>
          <p:nvPr/>
        </p:nvSpPr>
        <p:spPr>
          <a:xfrm>
            <a:off x="5181480" y="533412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也杀死（了）它（指狼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  <p:sndAc>
      <p:stSnd>
        <p:snd r:embed="rId1" name="%E7%8B%BC.WAV"/>
      </p:stSnd>
    </p:sndAc>
  </p:transition>
  <p:timing>
    <p:tnLst>
      <p:par>
        <p:cTn id="613" dur="indefinite" restart="never" nodeType="tmRoot">
          <p:childTnLst>
            <p:seq>
              <p:cTn id="614" dur="indefinite" nodeType="mainSeq">
                <p:childTnLst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9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9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4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9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4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9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4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9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-360" y="188640"/>
            <a:ext cx="889308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f0000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楷体"/>
                <a:ea typeface="楷体"/>
              </a:rPr>
              <a:t>    </a:t>
            </a:r>
            <a:r>
              <a:rPr b="1" lang="zh-CN" sz="4800" spc="-1" strike="noStrike">
                <a:solidFill>
                  <a:srgbClr val="ff0000"/>
                </a:solidFill>
                <a:latin typeface="楷体"/>
                <a:ea typeface="楷体"/>
              </a:rPr>
              <a:t>狼有合群的习性，在冰雪荒凉的原野里，集群的饿狼是很可怕的，不仅袭击家畜，有时还会伤人。深夜里的狼嚎声是最凄切可怖的了，光“鬼哭狼嚎”这几个字，看起来就令人毛骨悚然，狼似乎成了“恐怖”、“残忍”、“狡黠”的象征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  <p:sndAc>
      <p:stSnd>
        <p:snd r:embed="rId2" name="%E7%8B%BC.WAV"/>
      </p:stSnd>
    </p:sndAc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7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乃</a:t>
            </a:r>
            <a:r>
              <a:rPr b="1" lang="zh-CN" sz="4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悟前狼假</a:t>
            </a:r>
            <a:r>
              <a:rPr b="1" lang="zh-CN" sz="48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寐</a:t>
            </a:r>
            <a:r>
              <a:rPr b="1" lang="zh-CN" sz="4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</a:t>
            </a:r>
            <a:r>
              <a:rPr b="1" lang="zh-CN" sz="48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盖</a:t>
            </a:r>
            <a:r>
              <a:rPr b="1" lang="zh-CN" sz="4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</a:t>
            </a:r>
            <a:r>
              <a:rPr b="1" lang="zh-CN" sz="48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以</a:t>
            </a:r>
            <a:r>
              <a:rPr b="1" lang="zh-CN" sz="4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诱敌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4"/>
          <p:cNvSpPr/>
          <p:nvPr/>
        </p:nvSpPr>
        <p:spPr>
          <a:xfrm>
            <a:off x="468360" y="234936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于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5"/>
          <p:cNvSpPr/>
          <p:nvPr/>
        </p:nvSpPr>
        <p:spPr>
          <a:xfrm>
            <a:off x="3924360" y="234936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睡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6"/>
          <p:cNvSpPr/>
          <p:nvPr/>
        </p:nvSpPr>
        <p:spPr>
          <a:xfrm>
            <a:off x="5219640" y="242100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原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7"/>
          <p:cNvSpPr/>
          <p:nvPr/>
        </p:nvSpPr>
        <p:spPr>
          <a:xfrm>
            <a:off x="6659640" y="249228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9"/>
          <p:cNvSpPr/>
          <p:nvPr/>
        </p:nvSpPr>
        <p:spPr>
          <a:xfrm>
            <a:off x="395280" y="3284640"/>
            <a:ext cx="396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这才明白前面的那只狼假装睡觉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10"/>
          <p:cNvSpPr/>
          <p:nvPr/>
        </p:nvSpPr>
        <p:spPr>
          <a:xfrm>
            <a:off x="5003640" y="3213000"/>
            <a:ext cx="281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原来是用来诱惑敌方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  <p:sndAc>
      <p:stSnd>
        <p:snd r:embed="rId1" name="%E7%8B%BC.WAV"/>
      </p:stSnd>
    </p:sndAc>
  </p:transition>
  <p:timing>
    <p:tnLst>
      <p:par>
        <p:cTn id="660" dur="indefinite" restart="never" nodeType="tmRoot">
          <p:childTnLst>
            <p:seq>
              <p:cTn id="661" dur="indefinite" nodeType="mainSeq">
                <p:childTnLst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1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6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6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1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狼亦</a:t>
            </a:r>
            <a:r>
              <a:rPr b="1" lang="zh-CN" sz="48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黠</a:t>
            </a:r>
            <a:r>
              <a:rPr b="1" lang="zh-CN" sz="4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矣，而</a:t>
            </a:r>
            <a:r>
              <a:rPr b="1" lang="zh-CN" sz="48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顷刻</a:t>
            </a:r>
            <a:r>
              <a:rPr b="1" lang="zh-CN" sz="4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两毙，禽</a:t>
            </a:r>
            <a:br>
              <a:rPr sz="4800"/>
            </a:br>
            <a:br>
              <a:rPr sz="4800"/>
            </a:br>
            <a:br>
              <a:rPr sz="4800"/>
            </a:br>
            <a:r>
              <a:rPr b="1" lang="zh-CN" sz="4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兽之</a:t>
            </a:r>
            <a:r>
              <a:rPr b="1" lang="zh-CN" sz="48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变诈</a:t>
            </a:r>
            <a:r>
              <a:rPr b="1" lang="zh-CN" sz="4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</a:t>
            </a:r>
            <a:r>
              <a:rPr b="1" lang="zh-CN" sz="48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几何</a:t>
            </a:r>
            <a:r>
              <a:rPr b="1" lang="zh-CN" sz="4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哉？</a:t>
            </a:r>
            <a:r>
              <a:rPr b="1" lang="zh-CN" sz="48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止</a:t>
            </a:r>
            <a:r>
              <a:rPr b="1" lang="zh-CN" sz="4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增笑耳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4"/>
          <p:cNvSpPr/>
          <p:nvPr/>
        </p:nvSpPr>
        <p:spPr>
          <a:xfrm>
            <a:off x="1905120" y="243828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狡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5"/>
          <p:cNvSpPr/>
          <p:nvPr/>
        </p:nvSpPr>
        <p:spPr>
          <a:xfrm>
            <a:off x="4572000" y="243828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一会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6"/>
          <p:cNvSpPr/>
          <p:nvPr/>
        </p:nvSpPr>
        <p:spPr>
          <a:xfrm>
            <a:off x="1752480" y="4648320"/>
            <a:ext cx="202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作假，欺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7"/>
          <p:cNvSpPr/>
          <p:nvPr/>
        </p:nvSpPr>
        <p:spPr>
          <a:xfrm>
            <a:off x="3809880" y="4648320"/>
            <a:ext cx="17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多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8"/>
          <p:cNvSpPr/>
          <p:nvPr/>
        </p:nvSpPr>
        <p:spPr>
          <a:xfrm>
            <a:off x="5943600" y="464832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同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只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10"/>
          <p:cNvSpPr/>
          <p:nvPr/>
        </p:nvSpPr>
        <p:spPr>
          <a:xfrm>
            <a:off x="990720" y="281952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狼也是很狡猾了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11"/>
          <p:cNvSpPr/>
          <p:nvPr/>
        </p:nvSpPr>
        <p:spPr>
          <a:xfrm>
            <a:off x="4211640" y="2781360"/>
            <a:ext cx="31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可是一会儿两只狼都被杀死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12"/>
          <p:cNvSpPr/>
          <p:nvPr/>
        </p:nvSpPr>
        <p:spPr>
          <a:xfrm>
            <a:off x="838080" y="510552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禽兽的欺骗手段能有多少呢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13"/>
          <p:cNvSpPr/>
          <p:nvPr/>
        </p:nvSpPr>
        <p:spPr>
          <a:xfrm>
            <a:off x="5791320" y="5105520"/>
            <a:ext cx="281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只不过给人们增加笑料罢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  <p:sndAc>
      <p:stSnd>
        <p:snd r:embed="rId1" name="%E7%8B%BC.WAV"/>
      </p:stSnd>
    </p:sndAc>
  </p:transition>
  <p:timing>
    <p:tnLst>
      <p:par>
        <p:cTn id="692" dur="indefinite" restart="never" nodeType="tmRoot">
          <p:childTnLst>
            <p:seq>
              <p:cTn id="693" dur="indefinite" nodeType="mainSeq">
                <p:childTnLst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8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8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3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8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3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8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 Box 2"/>
          <p:cNvSpPr/>
          <p:nvPr/>
        </p:nvSpPr>
        <p:spPr>
          <a:xfrm>
            <a:off x="380880" y="3048120"/>
            <a:ext cx="685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屠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3"/>
          <p:cNvSpPr/>
          <p:nvPr/>
        </p:nvSpPr>
        <p:spPr>
          <a:xfrm>
            <a:off x="1219320" y="3200400"/>
            <a:ext cx="1218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__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4"/>
          <p:cNvSpPr/>
          <p:nvPr/>
        </p:nvSpPr>
        <p:spPr>
          <a:xfrm>
            <a:off x="3276720" y="3200400"/>
            <a:ext cx="182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__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5"/>
          <p:cNvSpPr/>
          <p:nvPr/>
        </p:nvSpPr>
        <p:spPr>
          <a:xfrm>
            <a:off x="5562720" y="3200400"/>
            <a:ext cx="182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__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6"/>
          <p:cNvSpPr/>
          <p:nvPr/>
        </p:nvSpPr>
        <p:spPr>
          <a:xfrm>
            <a:off x="7543800" y="3200400"/>
            <a:ext cx="160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__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7"/>
          <p:cNvSpPr/>
          <p:nvPr/>
        </p:nvSpPr>
        <p:spPr>
          <a:xfrm>
            <a:off x="2340000" y="34290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8"/>
          <p:cNvSpPr/>
          <p:nvPr/>
        </p:nvSpPr>
        <p:spPr>
          <a:xfrm>
            <a:off x="4427640" y="34290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AutoShape 9"/>
          <p:cNvSpPr/>
          <p:nvPr/>
        </p:nvSpPr>
        <p:spPr>
          <a:xfrm>
            <a:off x="6659640" y="34290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10"/>
          <p:cNvSpPr/>
          <p:nvPr/>
        </p:nvSpPr>
        <p:spPr>
          <a:xfrm>
            <a:off x="479520" y="333360"/>
            <a:ext cx="866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66ff"/>
                </a:solidFill>
                <a:latin typeface="Times New Roman"/>
                <a:ea typeface="隶书"/>
              </a:rPr>
              <a:t>齐读课文，理清故事结构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11"/>
          <p:cNvSpPr/>
          <p:nvPr/>
        </p:nvSpPr>
        <p:spPr>
          <a:xfrm>
            <a:off x="395280" y="141300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在下面的横线上填上一个动词，概括故事情节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12"/>
          <p:cNvSpPr/>
          <p:nvPr/>
        </p:nvSpPr>
        <p:spPr>
          <a:xfrm>
            <a:off x="1143000" y="3200400"/>
            <a:ext cx="762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13"/>
          <p:cNvSpPr/>
          <p:nvPr/>
        </p:nvSpPr>
        <p:spPr>
          <a:xfrm>
            <a:off x="3276720" y="3213000"/>
            <a:ext cx="609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惧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14"/>
          <p:cNvSpPr/>
          <p:nvPr/>
        </p:nvSpPr>
        <p:spPr>
          <a:xfrm>
            <a:off x="5562720" y="3200400"/>
            <a:ext cx="609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御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15"/>
          <p:cNvSpPr/>
          <p:nvPr/>
        </p:nvSpPr>
        <p:spPr>
          <a:xfrm>
            <a:off x="7596360" y="3213000"/>
            <a:ext cx="609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  <p:sndAc>
      <p:stSnd>
        <p:snd r:embed="rId1" name="%E7%8B%BC.WAV"/>
      </p:stSnd>
    </p:sndAc>
  </p:transition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45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 Box 2"/>
          <p:cNvSpPr/>
          <p:nvPr/>
        </p:nvSpPr>
        <p:spPr>
          <a:xfrm>
            <a:off x="395280" y="371628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方正姚体"/>
                <a:ea typeface="方正姚体"/>
              </a:rPr>
              <a:t>1</a:t>
            </a:r>
            <a:r>
              <a:rPr b="1" lang="zh-CN" sz="2800" spc="-1" strike="noStrike">
                <a:solidFill>
                  <a:srgbClr val="333399"/>
                </a:solidFill>
                <a:latin typeface="方正姚体"/>
                <a:ea typeface="方正姚体"/>
              </a:rPr>
              <a:t>、请结合图片思考：课文开篇向我们交代了几     大要素？分别是什么？请用原文语句回答</a:t>
            </a:r>
            <a:r>
              <a:rPr b="0" lang="zh-CN" sz="2800" spc="-1" strike="noStrike">
                <a:solidFill>
                  <a:srgbClr val="333399"/>
                </a:solidFill>
                <a:latin typeface="Times New Roman"/>
                <a:ea typeface="隶书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3"/>
          <p:cNvSpPr/>
          <p:nvPr/>
        </p:nvSpPr>
        <p:spPr>
          <a:xfrm>
            <a:off x="2700360" y="479736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文鼎粗圆简"/>
              </a:rPr>
              <a:t>时间：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2700360" y="5300640"/>
            <a:ext cx="208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文鼎粗圆简"/>
              </a:rPr>
              <a:t>地点：途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5"/>
          <p:cNvSpPr/>
          <p:nvPr/>
        </p:nvSpPr>
        <p:spPr>
          <a:xfrm>
            <a:off x="2556000" y="5732640"/>
            <a:ext cx="33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文鼎粗圆简"/>
              </a:rPr>
              <a:t>人物：一屠，二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6"/>
          <p:cNvSpPr/>
          <p:nvPr/>
        </p:nvSpPr>
        <p:spPr>
          <a:xfrm>
            <a:off x="4544640" y="609300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文鼎粗圆简"/>
              </a:rPr>
              <a:t>起因：一屠晚归，两狼缀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9" descr="hxx1"/>
          <p:cNvPicPr/>
          <p:nvPr/>
        </p:nvPicPr>
        <p:blipFill>
          <a:blip r:embed="rId1"/>
          <a:srcRect l="0" t="4057" r="0" b="2974"/>
          <a:stretch/>
        </p:blipFill>
        <p:spPr>
          <a:xfrm>
            <a:off x="1447920" y="304920"/>
            <a:ext cx="6248160" cy="3124080"/>
          </a:xfrm>
          <a:prstGeom prst="rect">
            <a:avLst/>
          </a:prstGeom>
          <a:ln w="0">
            <a:noFill/>
          </a:ln>
        </p:spPr>
      </p:pic>
      <p:sp>
        <p:nvSpPr>
          <p:cNvPr id="233" name="Text Box 10"/>
          <p:cNvSpPr/>
          <p:nvPr/>
        </p:nvSpPr>
        <p:spPr>
          <a:xfrm>
            <a:off x="609480" y="4952880"/>
            <a:ext cx="180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方正姚体"/>
                <a:ea typeface="方正姚体"/>
              </a:rPr>
              <a:t>四 要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horz"/>
    <p:sndAc>
      <p:stSnd>
        <p:snd r:embed="rId2" name="CAMERA.WAV"/>
      </p:stSnd>
    </p:sndAc>
  </p:transition>
  <p:timing>
    <p:tnLst>
      <p:par>
        <p:cTn id="770" dur="indefinite" restart="never" nodeType="tmRoot">
          <p:childTnLst>
            <p:seq>
              <p:cTn id="771" dur="indefinite" nodeType="mainSeq">
                <p:childTnLst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6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5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1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Picture 2" descr="hxx1"/>
          <p:cNvPicPr/>
          <p:nvPr/>
        </p:nvPicPr>
        <p:blipFill>
          <a:blip r:embed="rId1"/>
          <a:stretch/>
        </p:blipFill>
        <p:spPr>
          <a:xfrm>
            <a:off x="1371600" y="380880"/>
            <a:ext cx="6019920" cy="3048120"/>
          </a:xfrm>
          <a:prstGeom prst="rect">
            <a:avLst/>
          </a:prstGeom>
          <a:ln w="0">
            <a:noFill/>
          </a:ln>
        </p:spPr>
      </p:pic>
      <p:sp>
        <p:nvSpPr>
          <p:cNvPr id="235" name="Text Box 3"/>
          <p:cNvSpPr/>
          <p:nvPr/>
        </p:nvSpPr>
        <p:spPr>
          <a:xfrm>
            <a:off x="826920" y="3505320"/>
            <a:ext cx="76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方正姚体"/>
                <a:ea typeface="方正姚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方正姚体"/>
                <a:ea typeface="方正姚体"/>
              </a:rPr>
              <a:t>、第</a:t>
            </a:r>
            <a:r>
              <a:rPr b="1" lang="en-US" sz="2800" spc="-1" strike="noStrike">
                <a:solidFill>
                  <a:srgbClr val="000000"/>
                </a:solidFill>
                <a:latin typeface="方正姚体"/>
                <a:ea typeface="方正姚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方正姚体"/>
                <a:ea typeface="方正姚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方正姚体"/>
                <a:ea typeface="方正姚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方正姚体"/>
                <a:ea typeface="方正姚体"/>
              </a:rPr>
              <a:t>段表现了狼的什么特点？体现在哪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4"/>
          <p:cNvSpPr/>
          <p:nvPr/>
        </p:nvSpPr>
        <p:spPr>
          <a:xfrm>
            <a:off x="1309680" y="40053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ff0000"/>
                </a:solidFill>
                <a:uFillTx/>
                <a:latin typeface="Times New Roman"/>
              </a:rPr>
              <a:t>凶恶贪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5"/>
          <p:cNvSpPr/>
          <p:nvPr/>
        </p:nvSpPr>
        <p:spPr>
          <a:xfrm>
            <a:off x="900000" y="4653000"/>
            <a:ext cx="51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文鼎粗圆简"/>
                <a:ea typeface="文鼎粗圆简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文鼎粗圆简"/>
                <a:ea typeface="文鼎粗圆简"/>
              </a:rPr>
              <a:t>、屠户表现得怎么样？体现在哪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6"/>
          <p:cNvSpPr/>
          <p:nvPr/>
        </p:nvSpPr>
        <p:spPr>
          <a:xfrm>
            <a:off x="3564000" y="5229360"/>
            <a:ext cx="187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2060"/>
                </a:solidFill>
                <a:uFillTx/>
                <a:latin typeface="Times New Roman"/>
              </a:rPr>
              <a:t>投、复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8"/>
          <p:cNvSpPr/>
          <p:nvPr/>
        </p:nvSpPr>
        <p:spPr>
          <a:xfrm>
            <a:off x="4165200" y="4076640"/>
            <a:ext cx="31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2060"/>
                </a:solidFill>
                <a:uFillTx/>
                <a:latin typeface="文鼎粗圆简"/>
                <a:ea typeface="文鼎粗圆简"/>
              </a:rPr>
              <a:t>缀；止，从；止，至；并驱如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9"/>
          <p:cNvSpPr/>
          <p:nvPr/>
        </p:nvSpPr>
        <p:spPr>
          <a:xfrm>
            <a:off x="1555920" y="51577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3300"/>
                </a:solidFill>
                <a:uFillTx/>
                <a:latin typeface="Times New Roman"/>
                <a:ea typeface="文鼎粗圆简"/>
              </a:rPr>
              <a:t>迁就退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10"/>
          <p:cNvSpPr/>
          <p:nvPr/>
        </p:nvSpPr>
        <p:spPr>
          <a:xfrm>
            <a:off x="6270480" y="465300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表现了屠户怎样的心理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11"/>
          <p:cNvSpPr/>
          <p:nvPr/>
        </p:nvSpPr>
        <p:spPr>
          <a:xfrm>
            <a:off x="5867280" y="530064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2060"/>
                </a:solidFill>
                <a:uFillTx/>
                <a:latin typeface="Times New Roman"/>
              </a:rPr>
              <a:t>害怕、侥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  <p:sndAc>
      <p:stSnd>
        <p:snd r:embed="rId2" name="%E7%8B%BC.WAV"/>
      </p:stSnd>
    </p:sndAc>
  </p:transition>
  <p:timing>
    <p:tnLst>
      <p:par>
        <p:cTn id="808" dur="indefinite" restart="never" nodeType="tmRoot">
          <p:childTnLst>
            <p:seq>
              <p:cTn id="809" dur="indefinite" nodeType="mainSeq">
                <p:childTnLst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4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9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4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5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0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5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51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2" descr="hxx2"/>
          <p:cNvPicPr/>
          <p:nvPr/>
        </p:nvPicPr>
        <p:blipFill>
          <a:blip r:embed="rId1"/>
          <a:stretch/>
        </p:blipFill>
        <p:spPr>
          <a:xfrm>
            <a:off x="1547640" y="189000"/>
            <a:ext cx="6096240" cy="3581280"/>
          </a:xfrm>
          <a:prstGeom prst="rect">
            <a:avLst/>
          </a:prstGeom>
          <a:ln w="0">
            <a:noFill/>
          </a:ln>
        </p:spPr>
      </p:pic>
      <p:sp>
        <p:nvSpPr>
          <p:cNvPr id="244" name="Text Box 3"/>
          <p:cNvSpPr/>
          <p:nvPr/>
        </p:nvSpPr>
        <p:spPr>
          <a:xfrm>
            <a:off x="611280" y="3789360"/>
            <a:ext cx="634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文鼎粗圆简"/>
                <a:ea typeface="文鼎粗圆简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文鼎粗圆简"/>
                <a:ea typeface="文鼎粗圆简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文鼎粗圆简"/>
                <a:ea typeface="文鼎粗圆简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文鼎粗圆简"/>
                <a:ea typeface="文鼎粗圆简"/>
              </a:rPr>
              <a:t>段描写屠夫心理的句子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4"/>
          <p:cNvSpPr/>
          <p:nvPr/>
        </p:nvSpPr>
        <p:spPr>
          <a:xfrm>
            <a:off x="5148360" y="3860640"/>
            <a:ext cx="43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文鼎粗圆简"/>
                <a:ea typeface="文鼎粗圆简"/>
              </a:rPr>
              <a:t>屠大窘</a:t>
            </a:r>
            <a:r>
              <a:rPr b="1" lang="en-US" sz="2800" spc="-1" strike="noStrike">
                <a:solidFill>
                  <a:srgbClr val="ff3300"/>
                </a:solidFill>
                <a:latin typeface="文鼎粗圆简"/>
                <a:ea typeface="文鼎粗圆简"/>
              </a:rPr>
              <a:t>,</a:t>
            </a:r>
            <a:r>
              <a:rPr b="1" lang="zh-CN" sz="2800" spc="-1" strike="noStrike">
                <a:solidFill>
                  <a:srgbClr val="ff3300"/>
                </a:solidFill>
                <a:latin typeface="文鼎粗圆简"/>
                <a:ea typeface="文鼎粗圆简"/>
              </a:rPr>
              <a:t>恐前后受其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5"/>
          <p:cNvSpPr/>
          <p:nvPr/>
        </p:nvSpPr>
        <p:spPr>
          <a:xfrm>
            <a:off x="611280" y="4365720"/>
            <a:ext cx="73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文鼎粗圆简"/>
                <a:ea typeface="文鼎粗圆简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文鼎粗圆简"/>
                <a:ea typeface="文鼎粗圆简"/>
              </a:rPr>
              <a:t>、他采取了怎样的行动？</a:t>
            </a:r>
            <a:r>
              <a:rPr b="1" lang="en-US" sz="2800" spc="-1" strike="noStrike">
                <a:solidFill>
                  <a:srgbClr val="000000"/>
                </a:solidFill>
                <a:latin typeface="文鼎粗圆简"/>
                <a:ea typeface="文鼎粗圆简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文鼎粗圆简"/>
                <a:ea typeface="文鼎粗圆简"/>
              </a:rPr>
              <a:t>原文回答</a:t>
            </a:r>
            <a:r>
              <a:rPr b="1" lang="en-US" sz="2800" spc="-1" strike="noStrike">
                <a:solidFill>
                  <a:srgbClr val="000000"/>
                </a:solidFill>
                <a:latin typeface="文鼎粗圆简"/>
                <a:ea typeface="文鼎粗圆简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6"/>
          <p:cNvSpPr/>
          <p:nvPr/>
        </p:nvSpPr>
        <p:spPr>
          <a:xfrm>
            <a:off x="6443640" y="4437000"/>
            <a:ext cx="279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文鼎粗圆简"/>
                <a:ea typeface="文鼎粗圆简"/>
              </a:rPr>
              <a:t>奔倚其下</a:t>
            </a:r>
            <a:r>
              <a:rPr b="1" lang="en-US" sz="2400" spc="-1" strike="noStrike">
                <a:solidFill>
                  <a:srgbClr val="ff3300"/>
                </a:solidFill>
                <a:latin typeface="文鼎粗圆简"/>
                <a:ea typeface="文鼎粗圆简"/>
              </a:rPr>
              <a:t>,</a:t>
            </a:r>
            <a:r>
              <a:rPr b="1" lang="zh-CN" sz="2400" spc="-1" strike="noStrike">
                <a:solidFill>
                  <a:srgbClr val="ff3300"/>
                </a:solidFill>
                <a:latin typeface="文鼎粗圆简"/>
                <a:ea typeface="文鼎粗圆简"/>
              </a:rPr>
              <a:t>弛担持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7"/>
          <p:cNvSpPr/>
          <p:nvPr/>
        </p:nvSpPr>
        <p:spPr>
          <a:xfrm>
            <a:off x="611280" y="5661000"/>
            <a:ext cx="32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文鼎粗圆简"/>
                <a:ea typeface="文鼎粗圆简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文鼎粗圆简"/>
                <a:ea typeface="文鼎粗圆简"/>
              </a:rPr>
              <a:t>、狼的表现呢</a:t>
            </a:r>
            <a:r>
              <a:rPr b="1" lang="en-US" sz="2800" spc="-1" strike="noStrike">
                <a:solidFill>
                  <a:srgbClr val="000000"/>
                </a:solidFill>
                <a:latin typeface="文鼎粗圆简"/>
                <a:ea typeface="文鼎粗圆简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8"/>
          <p:cNvSpPr/>
          <p:nvPr/>
        </p:nvSpPr>
        <p:spPr>
          <a:xfrm>
            <a:off x="3276720" y="5661000"/>
            <a:ext cx="394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文鼎粗圆简"/>
              </a:rPr>
              <a:t>眈眈相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9"/>
          <p:cNvSpPr/>
          <p:nvPr/>
        </p:nvSpPr>
        <p:spPr>
          <a:xfrm>
            <a:off x="684360" y="4941720"/>
            <a:ext cx="698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文鼎粗圆简"/>
                <a:ea typeface="文鼎粗圆简"/>
              </a:rPr>
              <a:t>说明屠户已果断做出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文鼎粗圆简"/>
                <a:ea typeface="文鼎粗圆简"/>
              </a:rPr>
              <a:t>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文鼎粗圆简"/>
                <a:ea typeface="文鼎粗圆简"/>
              </a:rPr>
              <a:t>。  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文鼎粗圆简"/>
                <a:ea typeface="文鼎粗圆简"/>
              </a:rPr>
              <a:t>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10"/>
          <p:cNvSpPr/>
          <p:nvPr/>
        </p:nvSpPr>
        <p:spPr>
          <a:xfrm>
            <a:off x="4211640" y="4941720"/>
            <a:ext cx="279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文鼎粗圆简"/>
                <a:ea typeface="文鼎粗圆简"/>
              </a:rPr>
              <a:t>抉择（抵御狼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11"/>
          <p:cNvSpPr/>
          <p:nvPr/>
        </p:nvSpPr>
        <p:spPr>
          <a:xfrm>
            <a:off x="5076720" y="5732640"/>
            <a:ext cx="4967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文鼎粗圆简"/>
                <a:ea typeface="文鼎粗圆简"/>
              </a:rPr>
              <a:t>说明狼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文鼎粗圆简"/>
                <a:ea typeface="文鼎粗圆简"/>
              </a:rPr>
              <a:t>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文鼎粗圆简"/>
                <a:ea typeface="文鼎粗圆简"/>
              </a:rPr>
              <a:t>。  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文鼎粗圆简"/>
                <a:ea typeface="文鼎粗圆简"/>
              </a:rPr>
              <a:t>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12"/>
          <p:cNvSpPr/>
          <p:nvPr/>
        </p:nvSpPr>
        <p:spPr>
          <a:xfrm>
            <a:off x="6346800" y="5589720"/>
            <a:ext cx="279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文鼎粗圆简"/>
                <a:ea typeface="文鼎粗圆简"/>
              </a:rPr>
              <a:t>不甘罢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lu"/>
    <p:sndAc>
      <p:stSnd>
        <p:snd r:embed="rId2" name="CAMERA.WAV"/>
      </p:stSnd>
    </p:sndAc>
  </p:transition>
  <p:timing>
    <p:tnLst>
      <p:par>
        <p:cTn id="858" dur="indefinite" restart="never" nodeType="tmRoot">
          <p:childTnLst>
            <p:seq>
              <p:cTn id="859" dur="indefinite" nodeType="mainSeq">
                <p:childTnLst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64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5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6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1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2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7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8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Text Box 2"/>
          <p:cNvSpPr/>
          <p:nvPr/>
        </p:nvSpPr>
        <p:spPr>
          <a:xfrm>
            <a:off x="380880" y="3505320"/>
            <a:ext cx="3581640" cy="306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文鼎粗圆简"/>
                <a:ea typeface="文鼎粗圆简"/>
              </a:rPr>
              <a:t>请用原文回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文鼎粗圆简"/>
                <a:ea typeface="文鼎粗圆简"/>
              </a:rPr>
              <a:t>1 </a:t>
            </a:r>
            <a:r>
              <a:rPr b="1" lang="zh-CN" sz="2800" spc="-1" strike="noStrike">
                <a:solidFill>
                  <a:srgbClr val="000000"/>
                </a:solidFill>
                <a:latin typeface="文鼎粗圆简"/>
                <a:ea typeface="文鼎粗圆简"/>
              </a:rPr>
              <a:t>两狼的计谋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文鼎粗圆简"/>
                <a:ea typeface="文鼎粗圆简"/>
              </a:rPr>
              <a:t>2 </a:t>
            </a:r>
            <a:r>
              <a:rPr b="1" lang="zh-CN" sz="2800" spc="-1" strike="noStrike">
                <a:solidFill>
                  <a:srgbClr val="000000"/>
                </a:solidFill>
                <a:latin typeface="文鼎粗圆简"/>
                <a:ea typeface="文鼎粗圆简"/>
              </a:rPr>
              <a:t>前狼假寐的姿势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文鼎粗圆简"/>
                <a:ea typeface="文鼎粗圆简"/>
              </a:rPr>
              <a:t>3 </a:t>
            </a:r>
            <a:r>
              <a:rPr b="1" lang="zh-CN" sz="2800" spc="-1" strike="noStrike">
                <a:solidFill>
                  <a:srgbClr val="000000"/>
                </a:solidFill>
                <a:latin typeface="文鼎粗圆简"/>
                <a:ea typeface="文鼎粗圆简"/>
              </a:rPr>
              <a:t>前狼假寐的神态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文鼎粗圆简"/>
                <a:ea typeface="文鼎粗圆简"/>
              </a:rPr>
              <a:t>4 </a:t>
            </a:r>
            <a:r>
              <a:rPr b="1" lang="zh-CN" sz="2800" spc="-1" strike="noStrike">
                <a:solidFill>
                  <a:srgbClr val="000000"/>
                </a:solidFill>
                <a:latin typeface="文鼎粗圆简"/>
                <a:ea typeface="文鼎粗圆简"/>
              </a:rPr>
              <a:t>前狼假寐的目的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文鼎粗圆简"/>
                <a:ea typeface="文鼎粗圆简"/>
              </a:rPr>
              <a:t>5 </a:t>
            </a:r>
            <a:r>
              <a:rPr b="1" lang="zh-CN" sz="2800" spc="-1" strike="noStrike">
                <a:solidFill>
                  <a:srgbClr val="000000"/>
                </a:solidFill>
                <a:latin typeface="文鼎粗圆简"/>
                <a:ea typeface="文鼎粗圆简"/>
              </a:rPr>
              <a:t>后狼径去的目的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3"/>
          <p:cNvSpPr/>
          <p:nvPr/>
        </p:nvSpPr>
        <p:spPr>
          <a:xfrm>
            <a:off x="2987640" y="3860640"/>
            <a:ext cx="615636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文鼎粗圆简"/>
                <a:ea typeface="文鼎粗圆简"/>
              </a:rPr>
              <a:t>一狼径去，一狼假寐 </a:t>
            </a:r>
            <a:r>
              <a:rPr b="1" lang="en-US" sz="2800" spc="-1" strike="noStrike">
                <a:solidFill>
                  <a:srgbClr val="ff0000"/>
                </a:solidFill>
                <a:latin typeface="文鼎粗圆简"/>
                <a:ea typeface="文鼎粗圆简"/>
              </a:rPr>
              <a:t>(</a:t>
            </a:r>
            <a:r>
              <a:rPr b="1" lang="zh-CN" sz="2800" spc="-1" strike="noStrike">
                <a:solidFill>
                  <a:srgbClr val="ff0000"/>
                </a:solidFill>
                <a:latin typeface="文鼎粗圆简"/>
                <a:ea typeface="文鼎粗圆简"/>
              </a:rPr>
              <a:t>前后夹击屠夫</a:t>
            </a:r>
            <a:r>
              <a:rPr b="1" lang="en-US" sz="2800" spc="-1" strike="noStrike">
                <a:solidFill>
                  <a:srgbClr val="ff0000"/>
                </a:solidFill>
                <a:latin typeface="文鼎粗圆简"/>
                <a:ea typeface="文鼎粗圆简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4"/>
          <p:cNvSpPr/>
          <p:nvPr/>
        </p:nvSpPr>
        <p:spPr>
          <a:xfrm>
            <a:off x="3635280" y="4292640"/>
            <a:ext cx="259236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文鼎粗圆简"/>
              </a:rPr>
              <a:t>犬坐于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5"/>
          <p:cNvSpPr/>
          <p:nvPr/>
        </p:nvSpPr>
        <p:spPr>
          <a:xfrm>
            <a:off x="3733920" y="4876920"/>
            <a:ext cx="307008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文鼎粗圆简"/>
              </a:rPr>
              <a:t>目似瞑，意暇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6"/>
          <p:cNvSpPr/>
          <p:nvPr/>
        </p:nvSpPr>
        <p:spPr>
          <a:xfrm>
            <a:off x="3851280" y="5229360"/>
            <a:ext cx="144612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文鼎粗圆简"/>
              </a:rPr>
              <a:t>诱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7"/>
          <p:cNvSpPr/>
          <p:nvPr/>
        </p:nvSpPr>
        <p:spPr>
          <a:xfrm>
            <a:off x="3733920" y="5715000"/>
            <a:ext cx="304776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文鼎粗圆简"/>
              </a:rPr>
              <a:t>意将隧入以攻其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8"/>
          <p:cNvSpPr/>
          <p:nvPr/>
        </p:nvSpPr>
        <p:spPr>
          <a:xfrm>
            <a:off x="380880" y="5943600"/>
            <a:ext cx="464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文鼎粗圆简"/>
                <a:ea typeface="文鼎粗圆简"/>
              </a:rPr>
              <a:t>6 </a:t>
            </a:r>
            <a:r>
              <a:rPr b="1" lang="zh-CN" sz="2800" spc="-1" strike="noStrike">
                <a:solidFill>
                  <a:srgbClr val="000000"/>
                </a:solidFill>
                <a:latin typeface="文鼎粗圆简"/>
                <a:ea typeface="文鼎粗圆简"/>
              </a:rPr>
              <a:t>此节表现了狼的什么特点</a:t>
            </a:r>
            <a:r>
              <a:rPr b="1" lang="en-US" sz="2000" spc="-1" strike="noStrike">
                <a:solidFill>
                  <a:srgbClr val="000000"/>
                </a:solidFill>
                <a:latin typeface="文鼎粗圆简"/>
                <a:ea typeface="文鼎粗圆简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9" descr="hxx3"/>
          <p:cNvPicPr/>
          <p:nvPr/>
        </p:nvPicPr>
        <p:blipFill>
          <a:blip r:embed="rId1"/>
          <a:srcRect l="408" t="5157" r="0" b="393"/>
          <a:stretch/>
        </p:blipFill>
        <p:spPr>
          <a:xfrm>
            <a:off x="1752480" y="228600"/>
            <a:ext cx="6019920" cy="2971800"/>
          </a:xfrm>
          <a:prstGeom prst="rect">
            <a:avLst/>
          </a:prstGeom>
          <a:ln w="0">
            <a:noFill/>
          </a:ln>
        </p:spPr>
      </p:pic>
      <p:sp>
        <p:nvSpPr>
          <p:cNvPr id="262" name="Text Box 10"/>
          <p:cNvSpPr/>
          <p:nvPr/>
        </p:nvSpPr>
        <p:spPr>
          <a:xfrm>
            <a:off x="5257800" y="601992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文鼎粗圆简"/>
                <a:ea typeface="文鼎粗圆简"/>
              </a:rPr>
              <a:t>阴险狡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  <p:sndAc>
      <p:stSnd>
        <p:snd r:embed="rId2" name="CAMERA.WAV"/>
      </p:stSnd>
    </p:sndAc>
  </p:transition>
  <p:timing>
    <p:tnLst>
      <p:par>
        <p:cTn id="925" dur="indefinite" restart="never" nodeType="tmRoot">
          <p:childTnLst>
            <p:seq>
              <p:cTn id="926" dur="indefinite" nodeType="mainSeq">
                <p:childTnLst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1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7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fill="hold">
                      <p:stCondLst>
                        <p:cond delay="indefinite"/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fill="hold">
                      <p:stCondLst>
                        <p:cond delay="indefinite"/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4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0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1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6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7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3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Picture 2" descr="hxx4"/>
          <p:cNvPicPr/>
          <p:nvPr/>
        </p:nvPicPr>
        <p:blipFill>
          <a:blip r:embed="rId1"/>
          <a:stretch/>
        </p:blipFill>
        <p:spPr>
          <a:xfrm>
            <a:off x="1066680" y="228600"/>
            <a:ext cx="7010640" cy="4200480"/>
          </a:xfrm>
          <a:prstGeom prst="rect">
            <a:avLst/>
          </a:prstGeom>
          <a:ln w="0">
            <a:noFill/>
          </a:ln>
        </p:spPr>
      </p:pic>
      <p:sp>
        <p:nvSpPr>
          <p:cNvPr id="264" name="Text Box 3"/>
          <p:cNvSpPr/>
          <p:nvPr/>
        </p:nvSpPr>
        <p:spPr>
          <a:xfrm>
            <a:off x="539640" y="4508640"/>
            <a:ext cx="820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Times New Roman"/>
                <a:ea typeface="文鼎粗圆简"/>
              </a:rPr>
              <a:t>请结合图片说出屠夫杀前狼的经过，从中可以看出屠夫的什么特点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4"/>
          <p:cNvSpPr/>
          <p:nvPr/>
        </p:nvSpPr>
        <p:spPr>
          <a:xfrm>
            <a:off x="1355760" y="5732640"/>
            <a:ext cx="372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文鼎粗圆简"/>
                <a:ea typeface="文鼎粗圆简"/>
              </a:rPr>
              <a:t>屠暴起</a:t>
            </a:r>
            <a:r>
              <a:rPr b="1" lang="en-US" sz="2800" spc="-1" strike="noStrike">
                <a:solidFill>
                  <a:srgbClr val="000000"/>
                </a:solidFill>
                <a:latin typeface="文鼎粗圆简"/>
                <a:ea typeface="文鼎粗圆简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文鼎粗圆简"/>
                <a:ea typeface="文鼎粗圆简"/>
              </a:rPr>
              <a:t>以刀劈狼首</a:t>
            </a:r>
            <a:r>
              <a:rPr b="1" lang="en-US" sz="2800" spc="-1" strike="noStrike">
                <a:solidFill>
                  <a:srgbClr val="000000"/>
                </a:solidFill>
                <a:latin typeface="文鼎粗圆简"/>
                <a:ea typeface="文鼎粗圆简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文鼎粗圆简"/>
                <a:ea typeface="文鼎粗圆简"/>
              </a:rPr>
              <a:t>又数刀毙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5"/>
          <p:cNvSpPr/>
          <p:nvPr/>
        </p:nvSpPr>
        <p:spPr>
          <a:xfrm>
            <a:off x="6012000" y="5805360"/>
            <a:ext cx="24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文鼎粗圆简"/>
                <a:ea typeface="文鼎粗圆简"/>
              </a:rPr>
              <a:t>(</a:t>
            </a:r>
            <a:r>
              <a:rPr b="1" lang="zh-CN" sz="2800" spc="-1" strike="noStrike">
                <a:solidFill>
                  <a:srgbClr val="ff0000"/>
                </a:solidFill>
                <a:latin typeface="文鼎粗圆简"/>
                <a:ea typeface="文鼎粗圆简"/>
              </a:rPr>
              <a:t>勇敢、果断</a:t>
            </a:r>
            <a:r>
              <a:rPr b="1" lang="en-US" sz="2800" spc="-1" strike="noStrike">
                <a:solidFill>
                  <a:srgbClr val="ff0000"/>
                </a:solidFill>
                <a:latin typeface="文鼎粗圆简"/>
                <a:ea typeface="文鼎粗圆简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d"/>
    <p:sndAc>
      <p:stSnd>
        <p:snd r:embed="rId2" name="CAMERA.WAV"/>
      </p:stSnd>
    </p:sndAc>
  </p:transition>
  <p:timing>
    <p:tnLst>
      <p:par>
        <p:cTn id="974" dur="indefinite" restart="never" nodeType="tmRoot">
          <p:childTnLst>
            <p:seq>
              <p:cTn id="975" dur="indefinite" nodeType="mainSeq">
                <p:childTnLst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0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2" fill="hold">
                      <p:stCondLst>
                        <p:cond delay="indefinite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Picture 2" descr="hxx5"/>
          <p:cNvPicPr/>
          <p:nvPr/>
        </p:nvPicPr>
        <p:blipFill>
          <a:blip r:embed="rId1"/>
          <a:stretch/>
        </p:blipFill>
        <p:spPr>
          <a:xfrm>
            <a:off x="1676520" y="304920"/>
            <a:ext cx="5790960" cy="4495680"/>
          </a:xfrm>
          <a:prstGeom prst="rect">
            <a:avLst/>
          </a:prstGeom>
          <a:ln w="0">
            <a:noFill/>
          </a:ln>
        </p:spPr>
      </p:pic>
      <p:sp>
        <p:nvSpPr>
          <p:cNvPr id="268" name="Text Box 3"/>
          <p:cNvSpPr/>
          <p:nvPr/>
        </p:nvSpPr>
        <p:spPr>
          <a:xfrm>
            <a:off x="539640" y="4952880"/>
            <a:ext cx="813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文鼎粗圆简"/>
              </a:rPr>
              <a:t>请结合图片说出屠夫杀后狼的经过，体现屠夫的什么特点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4"/>
          <p:cNvSpPr/>
          <p:nvPr/>
        </p:nvSpPr>
        <p:spPr>
          <a:xfrm>
            <a:off x="539640" y="6165720"/>
            <a:ext cx="42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文鼎粗圆简"/>
                <a:ea typeface="文鼎粗圆简"/>
              </a:rPr>
              <a:t>屠自后断其股</a:t>
            </a:r>
            <a:r>
              <a:rPr b="1" lang="en-US" sz="3200" spc="-1" strike="noStrike">
                <a:solidFill>
                  <a:srgbClr val="002060"/>
                </a:solidFill>
                <a:latin typeface="文鼎粗圆简"/>
                <a:ea typeface="文鼎粗圆简"/>
              </a:rPr>
              <a:t>,</a:t>
            </a:r>
            <a:r>
              <a:rPr b="1" lang="zh-CN" sz="3200" spc="-1" strike="noStrike">
                <a:solidFill>
                  <a:srgbClr val="002060"/>
                </a:solidFill>
                <a:latin typeface="文鼎粗圆简"/>
                <a:ea typeface="文鼎粗圆简"/>
              </a:rPr>
              <a:t>亦毙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5"/>
          <p:cNvSpPr/>
          <p:nvPr/>
        </p:nvSpPr>
        <p:spPr>
          <a:xfrm>
            <a:off x="5003640" y="609300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文鼎粗圆简"/>
                <a:ea typeface="文鼎粗圆简"/>
              </a:rPr>
              <a:t>(</a:t>
            </a:r>
            <a:r>
              <a:rPr b="1" lang="zh-CN" sz="3200" spc="-1" strike="noStrike">
                <a:solidFill>
                  <a:srgbClr val="ff0000"/>
                </a:solidFill>
                <a:latin typeface="文鼎粗圆简"/>
                <a:ea typeface="文鼎粗圆简"/>
              </a:rPr>
              <a:t>勇敢机智且细心</a:t>
            </a:r>
            <a:r>
              <a:rPr b="1" lang="en-US" sz="3600" spc="-1" strike="noStrike">
                <a:solidFill>
                  <a:srgbClr val="ff0000"/>
                </a:solidFill>
                <a:latin typeface="文鼎粗圆简"/>
                <a:ea typeface="文鼎粗圆简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in" orient="vert"/>
    <p:sndAc>
      <p:stSnd>
        <p:snd r:embed="rId2" name="CAMERA.WAV"/>
      </p:stSnd>
    </p:sndAc>
  </p:transition>
  <p:timing>
    <p:tnLst>
      <p:par>
        <p:cTn id="988" dur="indefinite" restart="never" nodeType="tmRoot">
          <p:childTnLst>
            <p:seq>
              <p:cTn id="989" dur="indefinite" nodeType="mainSeq">
                <p:childTnLst>
                  <p:par>
                    <p:cTn id="990" fill="hold">
                      <p:stCondLst>
                        <p:cond delay="indefinite"/>
                      </p:stCondLst>
                      <p:childTnLst>
                        <p:par>
                          <p:cTn id="991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4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5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6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7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3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8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9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Picture 2" descr="hxx4"/>
          <p:cNvPicPr/>
          <p:nvPr/>
        </p:nvPicPr>
        <p:blipFill>
          <a:blip r:embed="rId1"/>
          <a:stretch/>
        </p:blipFill>
        <p:spPr>
          <a:xfrm>
            <a:off x="1676520" y="304920"/>
            <a:ext cx="2514600" cy="228600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3" descr="hxx5"/>
          <p:cNvPicPr/>
          <p:nvPr/>
        </p:nvPicPr>
        <p:blipFill>
          <a:blip r:embed="rId2"/>
          <a:stretch/>
        </p:blipFill>
        <p:spPr>
          <a:xfrm>
            <a:off x="5257800" y="228600"/>
            <a:ext cx="2514600" cy="2286000"/>
          </a:xfrm>
          <a:prstGeom prst="rect">
            <a:avLst/>
          </a:prstGeom>
          <a:ln w="0">
            <a:noFill/>
          </a:ln>
        </p:spPr>
      </p:pic>
      <p:sp>
        <p:nvSpPr>
          <p:cNvPr id="273" name="Text Box 4"/>
          <p:cNvSpPr/>
          <p:nvPr/>
        </p:nvSpPr>
        <p:spPr>
          <a:xfrm>
            <a:off x="990720" y="3962520"/>
            <a:ext cx="815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文鼎粗圆简"/>
                <a:ea typeface="文鼎粗圆简"/>
              </a:rPr>
              <a:t>3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文鼎粗圆简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文鼎粗圆简"/>
                <a:ea typeface="文鼎粗圆简"/>
              </a:rPr>
              <a:t>止增笑耳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文鼎粗圆简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文鼎粗圆简"/>
                <a:ea typeface="文鼎粗圆简"/>
              </a:rPr>
              <a:t>的仅仅是恶狼吗</a:t>
            </a:r>
            <a:r>
              <a:rPr b="1" lang="en-US" sz="2800" spc="-1" strike="noStrike">
                <a:solidFill>
                  <a:srgbClr val="000000"/>
                </a:solidFill>
                <a:latin typeface="文鼎粗圆简"/>
                <a:ea typeface="文鼎粗圆简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文鼎粗圆简"/>
                <a:ea typeface="文鼎粗圆简"/>
              </a:rPr>
              <a:t>？作者嘲讽的仅仅是恶狼吗</a:t>
            </a:r>
            <a:r>
              <a:rPr b="1" lang="en-US" sz="2800" spc="-1" strike="noStrike">
                <a:solidFill>
                  <a:srgbClr val="000000"/>
                </a:solidFill>
                <a:latin typeface="文鼎粗圆简"/>
                <a:ea typeface="文鼎粗圆简"/>
              </a:rPr>
              <a:t>?</a:t>
            </a:r>
            <a:r>
              <a:rPr b="1" lang="zh-CN" sz="2800" spc="-1" strike="noStrike">
                <a:solidFill>
                  <a:srgbClr val="000000"/>
                </a:solidFill>
                <a:latin typeface="文鼎粗圆简"/>
                <a:ea typeface="文鼎粗圆简"/>
              </a:rPr>
              <a:t>从这个故事中你获得怎样的启发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5"/>
          <p:cNvSpPr/>
          <p:nvPr/>
        </p:nvSpPr>
        <p:spPr>
          <a:xfrm>
            <a:off x="914400" y="259092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文鼎粗圆简"/>
                <a:ea typeface="文鼎粗圆简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文鼎粗圆简"/>
                <a:ea typeface="文鼎粗圆简"/>
              </a:rPr>
              <a:t>、朗读最后一段，作者的感叹是怎样的</a:t>
            </a:r>
            <a:r>
              <a:rPr b="1" lang="en-US" sz="2800" spc="-1" strike="noStrike">
                <a:solidFill>
                  <a:srgbClr val="000000"/>
                </a:solidFill>
                <a:latin typeface="文鼎粗圆简"/>
                <a:ea typeface="文鼎粗圆简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6"/>
          <p:cNvSpPr/>
          <p:nvPr/>
        </p:nvSpPr>
        <p:spPr>
          <a:xfrm>
            <a:off x="1143000" y="3048120"/>
            <a:ext cx="775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文鼎粗圆简"/>
                <a:ea typeface="文鼎粗圆简"/>
              </a:rPr>
              <a:t>狼亦黠矣</a:t>
            </a:r>
            <a:r>
              <a:rPr b="1" lang="en-US" sz="2400" spc="-1" strike="noStrike">
                <a:solidFill>
                  <a:srgbClr val="ff0000"/>
                </a:solidFill>
                <a:latin typeface="文鼎粗圆简"/>
                <a:ea typeface="文鼎粗圆简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文鼎粗圆简"/>
                <a:ea typeface="文鼎粗圆简"/>
              </a:rPr>
              <a:t>而顷刻两毙</a:t>
            </a:r>
            <a:r>
              <a:rPr b="1" lang="en-US" sz="2400" spc="-1" strike="noStrike">
                <a:solidFill>
                  <a:srgbClr val="ff0000"/>
                </a:solidFill>
                <a:latin typeface="文鼎粗圆简"/>
                <a:ea typeface="文鼎粗圆简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文鼎粗圆简"/>
                <a:ea typeface="文鼎粗圆简"/>
              </a:rPr>
              <a:t>禽兽之变诈几何哉</a:t>
            </a:r>
            <a:r>
              <a:rPr b="1" lang="en-US" sz="2400" spc="-1" strike="noStrike">
                <a:solidFill>
                  <a:srgbClr val="ff0000"/>
                </a:solidFill>
                <a:latin typeface="文鼎粗圆简"/>
                <a:ea typeface="文鼎粗圆简"/>
              </a:rPr>
              <a:t>?</a:t>
            </a:r>
            <a:r>
              <a:rPr b="1" lang="zh-CN" sz="2400" spc="-1" strike="noStrike">
                <a:solidFill>
                  <a:srgbClr val="ff0000"/>
                </a:solidFill>
                <a:latin typeface="文鼎粗圆简"/>
                <a:ea typeface="文鼎粗圆简"/>
              </a:rPr>
              <a:t>止增笑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7"/>
          <p:cNvSpPr/>
          <p:nvPr/>
        </p:nvSpPr>
        <p:spPr>
          <a:xfrm>
            <a:off x="990720" y="3505320"/>
            <a:ext cx="65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文鼎粗圆简"/>
                <a:ea typeface="文鼎粗圆简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文鼎粗圆简"/>
                <a:ea typeface="文鼎粗圆简"/>
              </a:rPr>
              <a:t>、用现代汉语解说这句话的意思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8"/>
          <p:cNvSpPr/>
          <p:nvPr/>
        </p:nvSpPr>
        <p:spPr>
          <a:xfrm>
            <a:off x="324000" y="4734000"/>
            <a:ext cx="8532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文鼎粗圆简"/>
                <a:ea typeface="文鼎粗圆简"/>
              </a:rPr>
              <a:t>不是</a:t>
            </a:r>
            <a:r>
              <a:rPr b="1" lang="en-US" sz="2400" spc="-1" strike="noStrike">
                <a:solidFill>
                  <a:srgbClr val="ff3300"/>
                </a:solidFill>
                <a:latin typeface="文鼎粗圆简"/>
                <a:ea typeface="文鼎粗圆简"/>
              </a:rPr>
              <a:t>,</a:t>
            </a:r>
            <a:r>
              <a:rPr b="1" lang="zh-CN" sz="2400" spc="-1" strike="noStrike">
                <a:solidFill>
                  <a:srgbClr val="ff3300"/>
                </a:solidFill>
                <a:latin typeface="文鼎粗圆简"/>
                <a:ea typeface="文鼎粗圆简"/>
              </a:rPr>
              <a:t>狼在此实际上是恶人的化身</a:t>
            </a:r>
            <a:r>
              <a:rPr b="1" lang="en-US" sz="2400" spc="-1" strike="noStrike">
                <a:solidFill>
                  <a:srgbClr val="ff3300"/>
                </a:solidFill>
                <a:latin typeface="文鼎粗圆简"/>
                <a:ea typeface="文鼎粗圆简"/>
              </a:rPr>
              <a:t>,</a:t>
            </a:r>
            <a:r>
              <a:rPr b="1" lang="zh-CN" sz="2400" spc="-1" strike="noStrike">
                <a:solidFill>
                  <a:srgbClr val="ff3300"/>
                </a:solidFill>
                <a:latin typeface="文鼎粗圆简"/>
                <a:ea typeface="文鼎粗圆简"/>
              </a:rPr>
              <a:t>代表的是那种贪婪、凶狠、狡诈、愚蠢的恶人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文鼎粗圆简"/>
                <a:ea typeface="文鼎粗圆简"/>
              </a:rPr>
              <a:t>   </a:t>
            </a:r>
            <a:r>
              <a:rPr b="1" lang="zh-CN" sz="2400" spc="-1" strike="noStrike">
                <a:solidFill>
                  <a:srgbClr val="ff3300"/>
                </a:solidFill>
                <a:latin typeface="文鼎粗圆简"/>
                <a:ea typeface="文鼎粗圆简"/>
              </a:rPr>
              <a:t>说明对待这种象恶狼的恶人，不要心存侥幸，妥协退让是不可取的，应该象屠夫一样敢于斗争，善于斗争，才能取得胜利。这正是此文的寓意所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d"/>
    <p:sndAc>
      <p:stSnd>
        <p:snd r:embed="rId3" name="CAMERA.WAV"/>
      </p:stSnd>
    </p:sndAc>
  </p:transition>
  <p:timing>
    <p:tnLst>
      <p:par>
        <p:cTn id="1010" dur="indefinite" restart="never" nodeType="tmRoot">
          <p:childTnLst>
            <p:seq>
              <p:cTn id="1011" dur="indefinite" nodeType="mainSeq">
                <p:childTnLst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2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3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8" dur="75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9" dur="75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4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0" dur="500" fill="hold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1" dur="500" fill="hold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6" dur="500" fill="hold"/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7" dur="500" fill="hold"/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68580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5400" spc="-1" strike="noStrike">
                <a:solidFill>
                  <a:srgbClr val="000000"/>
                </a:solidFill>
                <a:latin typeface="Arial"/>
                <a:ea typeface="隶书"/>
              </a:rPr>
              <a:t>狼 </a:t>
            </a: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1" descr="wolaavesbdr"/>
          <p:cNvPicPr/>
          <p:nvPr/>
        </p:nvPicPr>
        <p:blipFill>
          <a:blip r:embed="rId1"/>
          <a:stretch/>
        </p:blipFill>
        <p:spPr>
          <a:xfrm>
            <a:off x="882720" y="2514600"/>
            <a:ext cx="3473280" cy="38098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00360" y="2349360"/>
            <a:ext cx="4135320" cy="76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蒲松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  <p:sndAc>
      <p:stSnd>
        <p:snd r:embed="rId2" name="%E7%8B%BC.WAV"/>
      </p:stSnd>
    </p:sndAc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Text Box 2"/>
          <p:cNvSpPr/>
          <p:nvPr/>
        </p:nvSpPr>
        <p:spPr>
          <a:xfrm>
            <a:off x="1050840" y="555480"/>
            <a:ext cx="4892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3"/>
          <p:cNvSpPr/>
          <p:nvPr/>
        </p:nvSpPr>
        <p:spPr>
          <a:xfrm>
            <a:off x="2819520" y="2362320"/>
            <a:ext cx="2286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4"/>
          <p:cNvSpPr/>
          <p:nvPr/>
        </p:nvSpPr>
        <p:spPr>
          <a:xfrm>
            <a:off x="1752480" y="1447920"/>
            <a:ext cx="4876920" cy="28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a91983"/>
                </a:solidFill>
                <a:latin typeface="Arial"/>
                <a:ea typeface="华文中宋"/>
              </a:rPr>
              <a:t>屠夫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a91983"/>
                </a:solidFill>
                <a:latin typeface="Arial"/>
                <a:ea typeface="华文中宋"/>
              </a:rPr>
              <a:t>狼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5"/>
          <p:cNvSpPr/>
          <p:nvPr/>
        </p:nvSpPr>
        <p:spPr>
          <a:xfrm>
            <a:off x="3348000" y="2637000"/>
            <a:ext cx="3505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机智、勇敢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6"/>
          <p:cNvSpPr/>
          <p:nvPr/>
        </p:nvSpPr>
        <p:spPr>
          <a:xfrm>
            <a:off x="4874760" y="3605040"/>
            <a:ext cx="646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凶恶、贪婪、狡诈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WordArt 7"/>
          <p:cNvSpPr txBox="1"/>
          <p:nvPr/>
        </p:nvSpPr>
        <p:spPr>
          <a:xfrm>
            <a:off x="990720" y="609480"/>
            <a:ext cx="3294000" cy="1341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形象分析</a:t>
            </a:r>
            <a:endParaRPr b="0" lang="en-US" sz="4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284" name="Picture 8" descr="gif292"/>
          <p:cNvPicPr/>
          <p:nvPr/>
        </p:nvPicPr>
        <p:blipFill>
          <a:blip r:embed="rId1"/>
          <a:stretch/>
        </p:blipFill>
        <p:spPr>
          <a:xfrm>
            <a:off x="5791320" y="457200"/>
            <a:ext cx="2514600" cy="251460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9" descr="0000"/>
          <p:cNvPicPr/>
          <p:nvPr/>
        </p:nvPicPr>
        <p:blipFill>
          <a:blip r:embed="rId2"/>
          <a:stretch/>
        </p:blipFill>
        <p:spPr>
          <a:xfrm>
            <a:off x="228600" y="3962520"/>
            <a:ext cx="3048120" cy="266688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3" name="%E7%8B%BC.WAV"/>
      </p:stSnd>
    </p:sndAc>
  </p:transition>
  <p:timing>
    <p:tnLst>
      <p:par>
        <p:cTn id="1048" dur="indefinite" restart="never" nodeType="tmRoot">
          <p:childTnLst>
            <p:seq>
              <p:cTn id="1049" dur="indefinite" nodeType="mainSeq">
                <p:childTnLst>
                  <p:par>
                    <p:cTn id="1050" fill="hold">
                      <p:stCondLst>
                        <p:cond delay="indefinite"/>
                      </p:stCondLst>
                      <p:childTnLst>
                        <p:par>
                          <p:cTn id="1051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4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5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0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1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2" fill="hold">
                      <p:stCondLst>
                        <p:cond delay="indefinite"/>
                      </p:stCondLst>
                      <p:childTnLst>
                        <p:par>
                          <p:cTn id="1063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6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7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2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3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4" fill="hold">
                      <p:stCondLst>
                        <p:cond delay="indefinite"/>
                      </p:stCondLst>
                      <p:childTnLst>
                        <p:par>
                          <p:cTn id="1075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8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9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0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1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2" fill="hold">
                      <p:stCondLst>
                        <p:cond delay="indefinite"/>
                      </p:stCondLst>
                      <p:childTnLst>
                        <p:par>
                          <p:cTn id="1083" fill="hold">
                            <p:stCondLst>
                              <p:cond delay="0"/>
                            </p:stCondLst>
                            <p:childTnLst>
                              <p:par>
                                <p:cTn id="10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6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/>
          </p:nvPr>
        </p:nvSpPr>
        <p:spPr>
          <a:xfrm>
            <a:off x="609480" y="141768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幼圆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本文的主旨就是最后一段作者的议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幼圆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文章是以狼为主来叙事的，并从狼自取灭亡的角度来归结故事的主旨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幼圆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这个故事也表现了屠户的机智勇敢和斗争精神，但决非故事主旨所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幼圆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人们可以从中受到某些启发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幼圆"/>
                <a:ea typeface="幼圆"/>
              </a:rPr>
              <a:t>3. </a:t>
            </a:r>
            <a:r>
              <a:rPr b="1" lang="zh-CN" sz="4800" spc="-1" strike="noStrike">
                <a:solidFill>
                  <a:srgbClr val="000000"/>
                </a:solidFill>
                <a:latin typeface="幼圆"/>
                <a:ea typeface="幼圆"/>
              </a:rPr>
              <a:t>怎样理解本文的中心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  <p:sndAc>
      <p:stSnd>
        <p:snd r:embed="rId1" name="%E7%8B%BC.WAV"/>
      </p:stSnd>
    </p:sndAc>
  </p:transition>
  <p:timing>
    <p:tnLst>
      <p:par>
        <p:cTn id="1087" dur="indefinite" restart="never" nodeType="tmRoot">
          <p:childTnLst>
            <p:seq>
              <p:cTn id="1088" dur="indefinite" nodeType="mainSeq">
                <p:childTnLst>
                  <p:par>
                    <p:cTn id="1089" fill="hold">
                      <p:stCondLst>
                        <p:cond delay="indefinite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3" dur="500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8" dur="500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3" dur="500"/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4" fill="hold">
                      <p:stCondLst>
                        <p:cond delay="indefinite"/>
                      </p:stCondLst>
                      <p:childTnLst>
                        <p:par>
                          <p:cTn id="1105" fill="hold">
                            <p:stCondLst>
                              <p:cond delay="0"/>
                            </p:stCondLst>
                            <p:childTnLst>
                              <p:par>
                                <p:cTn id="11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8" dur="500"/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Text Box 4"/>
          <p:cNvSpPr/>
          <p:nvPr/>
        </p:nvSpPr>
        <p:spPr>
          <a:xfrm>
            <a:off x="324000" y="333360"/>
            <a:ext cx="8496000" cy="18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面对象狼一样的恶势力，不要存有幻想，妥协让步，要敢于斗争，善于斗争，才能取得胜利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5"/>
          <p:cNvSpPr/>
          <p:nvPr/>
        </p:nvSpPr>
        <p:spPr>
          <a:xfrm>
            <a:off x="611280" y="3645000"/>
            <a:ext cx="785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这个故事讽喻像狼一样的恶人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不论怎样狡诈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终归要失败的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  <p:sndAc>
      <p:stSnd>
        <p:snd r:embed="rId1" name="%E7%8B%BC.WAV"/>
      </p:stSnd>
    </p:sndAc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/>
          </p:nvPr>
        </p:nvSpPr>
        <p:spPr>
          <a:xfrm>
            <a:off x="0" y="189000"/>
            <a:ext cx="903600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总结：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文言短篇小说集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聊斋志异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是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清初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著名文学家蒲松龄的杰作。本文正选自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聊斋志异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中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狼三则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第二则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写的是一个屠夫杀死两只狼的故事，生动地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表现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了狼的贪婪、凶恶和狡诈的本性，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嘲讽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了恶狼因狡诈而自取灭亡的可笑下场，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启发读者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对待像狼一样狡诈的恶人，要敢于斗争，善于斗争，绝不能心慈手软。全文分两部分，前一部分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叙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写人狼相斗：遇狼、惧狼、御狼、杀狼，环环相扣，情节紧张曲折；后一部分是作者的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议论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点明了故事的主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  <p:sndAc>
      <p:stSnd>
        <p:snd r:embed="rId1" name="%E7%8B%BC.WAV"/>
      </p:stSnd>
    </p:sndAc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Arial"/>
                <a:ea typeface="华文新魏"/>
              </a:rPr>
              <a:t>和狼有关的成语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lvl="1" marL="690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豺狼成性   豺狼当道   豺狼之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鬼哭狼嚎   虎狼之势   狼狈不堪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狼狈为奸   狼奔豕突   狼贪虎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狼贪鼠窃   狼吞虎咽   狼心狗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狼心狗行   狼烟四起   狼眼鼠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狼子野心   前门拒虎，后门进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前怕狼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华文新魏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后怕虎           如狼似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引狼入室   羊狠狼贪   鹰视狼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  <p:sndAc>
      <p:stSnd>
        <p:snd r:embed="rId1" name="%E7%8B%BC.WAV"/>
      </p:stSnd>
    </p:sndAc>
  </p:transition>
  <p:timing>
    <p:tnLst>
      <p:par>
        <p:cTn id="1109" dur="indefinite" restart="never" nodeType="tmRoot">
          <p:childTnLst>
            <p:seq>
              <p:cTn id="1110" dur="indefinite" nodeType="mainSeq">
                <p:childTnLst>
                  <p:par>
                    <p:cTn id="1111" fill="hold">
                      <p:stCondLst>
                        <p:cond delay="indefinite"/>
                      </p:stCondLst>
                      <p:childTnLst>
                        <p:par>
                          <p:cTn id="1112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5" dur="500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8" dur="500"/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1" dur="500"/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4" dur="500"/>
                                        <p:tgtEl>
                                          <p:spTgt spid="2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7" dur="500"/>
                                        <p:tgtEl>
                                          <p:spTgt spid="2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0" dur="500"/>
                                        <p:tgtEl>
                                          <p:spTgt spid="2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3" dur="500"/>
                                        <p:tgtEl>
                                          <p:spTgt spid="2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6" dur="500"/>
                                        <p:tgtEl>
                                          <p:spTgt spid="2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华文新魏"/>
              </a:rPr>
              <a:t>一、简介蒲松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幼圆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蒲松龄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(164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幼圆"/>
              </a:rPr>
              <a:t>—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1715)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，字留仙，别号柳泉，山东淄川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今淄博市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幼圆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他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19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岁时接连考取县、府、道的第一名，名震一时。但此后屡试不第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幼圆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31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岁时，他迫于家贫，应聘为宝应县知县孙蕙的幕宾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次年辞幕回乡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幼圆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此后主要是在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幼圆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缙绅先生家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幼圆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设帐教学，直到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70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岁才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幼圆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撤帐归来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幼圆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  <p:sndAc>
      <p:stSnd>
        <p:snd r:embed="rId1" name="%E7%8B%BC.WAV"/>
      </p:stSnd>
    </p:sndAc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蒲松龄落第自勉联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553080" y="1295280"/>
            <a:ext cx="2340000" cy="52293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anchor="t" vert="eaVert">
            <a:normAutofit fontScale="82000"/>
          </a:bodyPr>
          <a:p>
            <a:pPr marL="281160" indent="-28116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隶书"/>
              </a:rPr>
              <a:t>有志者，事竟成，破釜沉舟，百二秦关终属楚；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23640" y="1341000"/>
            <a:ext cx="2160360" cy="53276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anchor="t" vert="eaVer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隶书"/>
              </a:rPr>
              <a:t>苦心人，天不负，卧薪尝胆，三千越甲可吞吴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"/>
          <p:cNvSpPr/>
          <p:nvPr/>
        </p:nvSpPr>
        <p:spPr>
          <a:xfrm>
            <a:off x="0" y="-273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6"/>
          <p:cNvSpPr/>
          <p:nvPr/>
        </p:nvSpPr>
        <p:spPr>
          <a:xfrm>
            <a:off x="182520" y="-2732040"/>
            <a:ext cx="87789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7"/>
          <p:cNvSpPr/>
          <p:nvPr/>
        </p:nvSpPr>
        <p:spPr>
          <a:xfrm>
            <a:off x="0" y="-273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Group 31"/>
          <p:cNvGrpSpPr/>
          <p:nvPr/>
        </p:nvGrpSpPr>
        <p:grpSpPr>
          <a:xfrm>
            <a:off x="0" y="-10474200"/>
            <a:ext cx="9144000" cy="27806400"/>
            <a:chOff x="0" y="-10474200"/>
            <a:chExt cx="9144000" cy="27806400"/>
          </a:xfrm>
        </p:grpSpPr>
        <p:sp>
          <p:nvSpPr>
            <p:cNvPr id="62" name="Rectangle 26"/>
            <p:cNvSpPr/>
            <p:nvPr/>
          </p:nvSpPr>
          <p:spPr>
            <a:xfrm>
              <a:off x="0" y="-10474200"/>
              <a:ext cx="6966000" cy="2753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3" name="Group 30"/>
            <p:cNvGrpSpPr/>
            <p:nvPr/>
          </p:nvGrpSpPr>
          <p:grpSpPr>
            <a:xfrm>
              <a:off x="0" y="-10474200"/>
              <a:ext cx="9144000" cy="27806400"/>
              <a:chOff x="0" y="-10474200"/>
              <a:chExt cx="9144000" cy="27806400"/>
            </a:xfrm>
          </p:grpSpPr>
          <p:sp>
            <p:nvSpPr>
              <p:cNvPr id="64" name="Rectangle 27"/>
              <p:cNvSpPr/>
              <p:nvPr/>
            </p:nvSpPr>
            <p:spPr>
              <a:xfrm>
                <a:off x="0" y="-10474200"/>
                <a:ext cx="9144000" cy="27806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Rectangle 28"/>
              <p:cNvSpPr/>
              <p:nvPr/>
            </p:nvSpPr>
            <p:spPr>
              <a:xfrm>
                <a:off x="0" y="-10474200"/>
                <a:ext cx="194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000000"/>
                    </a:solidFill>
                    <a:latin typeface="Arial"/>
                    <a:ea typeface="_x000b__x000c_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" name="Rectangle 41"/>
          <p:cNvSpPr/>
          <p:nvPr/>
        </p:nvSpPr>
        <p:spPr>
          <a:xfrm>
            <a:off x="5564160" y="219708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43"/>
          <p:cNvSpPr/>
          <p:nvPr/>
        </p:nvSpPr>
        <p:spPr>
          <a:xfrm>
            <a:off x="5435640" y="2276640"/>
            <a:ext cx="990720" cy="533160"/>
          </a:xfrm>
          <a:prstGeom prst="leftArrow">
            <a:avLst>
              <a:gd name="adj1" fmla="val 50000"/>
              <a:gd name="adj2" fmla="val 4645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44"/>
          <p:cNvSpPr/>
          <p:nvPr/>
        </p:nvSpPr>
        <p:spPr>
          <a:xfrm flipH="1">
            <a:off x="2555280" y="4653000"/>
            <a:ext cx="990360" cy="533520"/>
          </a:xfrm>
          <a:prstGeom prst="leftArrow">
            <a:avLst>
              <a:gd name="adj1" fmla="val 50000"/>
              <a:gd name="adj2" fmla="val 464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6" descr="y-00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05320" y="4151160"/>
            <a:ext cx="2303280" cy="1868760"/>
          </a:xfrm>
          <a:prstGeom prst="rect">
            <a:avLst/>
          </a:prstGeom>
          <a:ln w="0">
            <a:noFill/>
          </a:ln>
        </p:spPr>
      </p:pic>
      <p:grpSp>
        <p:nvGrpSpPr>
          <p:cNvPr id="70" name="Group 51"/>
          <p:cNvGrpSpPr/>
          <p:nvPr/>
        </p:nvGrpSpPr>
        <p:grpSpPr>
          <a:xfrm>
            <a:off x="3538080" y="1333440"/>
            <a:ext cx="2076840" cy="2171880"/>
            <a:chOff x="3538080" y="1333440"/>
            <a:chExt cx="2076840" cy="2171880"/>
          </a:xfrm>
        </p:grpSpPr>
        <p:pic>
          <p:nvPicPr>
            <p:cNvPr id="71" name="Picture 48" descr="chbw">
              <a:hlinkClick r:id="rId3"/>
            </p:cNvPr>
            <p:cNvPicPr/>
            <p:nvPr/>
          </p:nvPicPr>
          <p:blipFill>
            <a:blip r:embed="rId4"/>
            <a:stretch/>
          </p:blipFill>
          <p:spPr>
            <a:xfrm>
              <a:off x="3809880" y="1333440"/>
              <a:ext cx="1805040" cy="217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Text Box 50"/>
            <p:cNvSpPr/>
            <p:nvPr/>
          </p:nvSpPr>
          <p:spPr>
            <a:xfrm>
              <a:off x="3538080" y="1447920"/>
              <a:ext cx="729000" cy="20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99cc00"/>
                  </a:solidFill>
                  <a:latin typeface="Times New Roman"/>
                  <a:ea typeface="隶书"/>
                </a:rPr>
                <a:t>西楚霸王</a:t>
              </a:r>
              <a:r>
                <a:rPr b="0" lang="zh-CN" sz="1800" spc="-1" strike="noStrike">
                  <a:solidFill>
                    <a:srgbClr val="99cc00"/>
                  </a:solidFill>
                  <a:latin typeface="Arial"/>
                  <a:ea typeface="隶书"/>
                </a:rPr>
                <a:t>——</a:t>
              </a:r>
              <a:r>
                <a:rPr b="0" lang="zh-CN" sz="1800" spc="-1" strike="noStrike">
                  <a:solidFill>
                    <a:srgbClr val="99cc00"/>
                  </a:solidFill>
                  <a:latin typeface="Times New Roman"/>
                  <a:ea typeface="隶书"/>
                </a:rPr>
                <a:t>项羽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random/>
    <p:sndAc>
      <p:stSnd>
        <p:snd r:embed="rId5" name="%E7%8B%BC.WAV"/>
      </p:stSnd>
    </p:sndAc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000"/>
                            </p:stCondLst>
                            <p:childTnLst>
                              <p:par>
                                <p:cTn id="5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500"/>
                            </p:stCondLst>
                            <p:childTnLst>
                              <p:par>
                                <p:cTn id="6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2000"/>
                            </p:stCondLst>
                            <p:childTnLst>
                              <p:par>
                                <p:cTn id="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2500"/>
                            </p:stCondLst>
                            <p:childTnLst>
                              <p:par>
                                <p:cTn id="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3000"/>
                            </p:stCondLst>
                            <p:childTnLst>
                              <p:par>
                                <p:cTn id="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3500"/>
                            </p:stCondLst>
                            <p:childTnLst>
                              <p:par>
                                <p:cTn id="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华文新魏"/>
              </a:rPr>
              <a:t>二、《聊斋志异》的写作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xian1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58720" y="1486080"/>
            <a:ext cx="7772400" cy="474156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3" name="%E7%8B%BC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华文新魏"/>
              </a:rPr>
              <a:t>《聊斋志异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78920" y="1268280"/>
            <a:ext cx="8713800" cy="469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《聊斋志异》是蒲松龄的代表作，在他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40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岁左右已基本完成，此后不断有所增补和修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聊斋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是他的书屋名称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志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是记述的意思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异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指奇异的故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《聊斋志异》有短篇小说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491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篇。题材大多来自民间和下层知识分子的传说。多数故事通过描写妖狐神鬼来反映现实的社会生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《聊斋志异》的语言简练，描写细腻，人物形象鲜明，故事情节生动，具有较高的艺术成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  <p:sndAc>
      <p:stSnd>
        <p:snd r:embed="rId1" name="%E7%8B%BC.WAV"/>
      </p:stSnd>
    </p:sndAc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7380360" y="404640"/>
            <a:ext cx="1218960" cy="49341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04040"/>
                </a:solidFill>
                <a:latin typeface="隶书"/>
                <a:ea typeface="隶书"/>
              </a:rPr>
              <a:t>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04040"/>
                </a:solidFill>
                <a:latin typeface="隶书"/>
                <a:ea typeface="隶书"/>
              </a:rPr>
              <a:t>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04040"/>
                </a:solidFill>
                <a:latin typeface="隶书"/>
                <a:ea typeface="隶书"/>
              </a:rPr>
              <a:t>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04040"/>
                </a:solidFill>
                <a:latin typeface="隶书"/>
                <a:ea typeface="隶书"/>
              </a:rPr>
              <a:t>妖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04040"/>
                </a:solidFill>
                <a:latin typeface="隶书"/>
                <a:ea typeface="隶书"/>
              </a:rPr>
              <a:t>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04040"/>
                </a:solidFill>
                <a:latin typeface="隶书"/>
                <a:ea typeface="隶书"/>
              </a:rPr>
              <a:t>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04040"/>
                </a:solidFill>
                <a:latin typeface="隶书"/>
                <a:ea typeface="隶书"/>
              </a:rPr>
              <a:t>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04040"/>
                </a:solidFill>
                <a:latin typeface="隶书"/>
                <a:ea typeface="隶书"/>
              </a:rPr>
              <a:t>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71280" y="333360"/>
            <a:ext cx="1501560" cy="57564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04040"/>
                </a:solidFill>
                <a:latin typeface="隶书"/>
                <a:ea typeface="隶书"/>
              </a:rPr>
              <a:t>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04040"/>
                </a:solidFill>
                <a:latin typeface="隶书"/>
                <a:ea typeface="隶书"/>
              </a:rPr>
              <a:t>贪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04040"/>
                </a:solidFill>
                <a:latin typeface="隶书"/>
                <a:ea typeface="隶书"/>
              </a:rPr>
              <a:t>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04040"/>
                </a:solidFill>
                <a:latin typeface="隶书"/>
                <a:ea typeface="隶书"/>
              </a:rPr>
              <a:t>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04040"/>
                </a:solidFill>
                <a:latin typeface="隶书"/>
                <a:ea typeface="隶书"/>
              </a:rPr>
              <a:t>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04040"/>
                </a:solidFill>
                <a:latin typeface="隶书"/>
                <a:ea typeface="隶书"/>
              </a:rPr>
              <a:t>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04040"/>
                </a:solidFill>
                <a:latin typeface="隶书"/>
                <a:ea typeface="隶书"/>
              </a:rPr>
              <a:t>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04040"/>
                </a:solidFill>
                <a:latin typeface="隶书"/>
                <a:ea typeface="隶书"/>
              </a:rPr>
              <a:t>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6" descr="jxsd_cysd55"/>
          <p:cNvPicPr/>
          <p:nvPr/>
        </p:nvPicPr>
        <p:blipFill>
          <a:blip r:embed="rId1"/>
          <a:stretch/>
        </p:blipFill>
        <p:spPr>
          <a:xfrm>
            <a:off x="3059280" y="692280"/>
            <a:ext cx="3027240" cy="4525920"/>
          </a:xfrm>
          <a:prstGeom prst="rect">
            <a:avLst/>
          </a:prstGeom>
          <a:ln w="38160">
            <a:solidFill>
              <a:srgbClr val="99cc00"/>
            </a:solidFill>
            <a:miter/>
          </a:ln>
        </p:spPr>
      </p:pic>
      <p:sp>
        <p:nvSpPr>
          <p:cNvPr id="80" name="PlaceHolder 3"/>
          <p:cNvSpPr>
            <a:spLocks noGrp="1"/>
          </p:cNvSpPr>
          <p:nvPr>
            <p:ph type="title"/>
          </p:nvPr>
        </p:nvSpPr>
        <p:spPr>
          <a:xfrm>
            <a:off x="395280" y="508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  <a:ea typeface="隶书"/>
              </a:rPr>
              <a:t>蒲松龄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0"/>
          <p:cNvSpPr/>
          <p:nvPr/>
        </p:nvSpPr>
        <p:spPr>
          <a:xfrm>
            <a:off x="250920" y="6211800"/>
            <a:ext cx="59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郭沫若写蒲松龄的对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  <p:sndAc>
      <p:stSnd>
        <p:snd r:embed="rId2" name="%E7%8B%BC.WAV"/>
      </p:stSnd>
    </p:sndAc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" dur="5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" dur="5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500"/>
                            </p:stCondLst>
                            <p:childTnLst>
                              <p:par>
                                <p:cTn id="1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" dur="500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2000"/>
                            </p:stCondLst>
                            <p:childTnLst>
                              <p:par>
                                <p:cTn id="1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" dur="500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500"/>
                            </p:stCondLst>
                            <p:childTnLst>
                              <p:par>
                                <p:cTn id="1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" dur="500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3000"/>
                            </p:stCondLst>
                            <p:childTnLst>
                              <p:par>
                                <p:cTn id="1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500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500"/>
                            </p:stCondLst>
                            <p:childTnLst>
                              <p:par>
                                <p:cTn id="1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" dur="500"/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4000"/>
                            </p:stCondLst>
                            <p:childTnLst>
                              <p:par>
                                <p:cTn id="1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45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5000"/>
                            </p:stCondLst>
                            <p:childTnLst>
                              <p:par>
                                <p:cTn id="1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" dur="5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5500"/>
                            </p:stCondLst>
                            <p:childTnLst>
                              <p:par>
                                <p:cTn id="1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" dur="500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6000"/>
                            </p:stCondLst>
                            <p:childTnLst>
                              <p:par>
                                <p:cTn id="1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" dur="50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500"/>
                            </p:stCondLst>
                            <p:childTnLst>
                              <p:par>
                                <p:cTn id="1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500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7000"/>
                            </p:stCondLst>
                            <p:childTnLst>
                              <p:par>
                                <p:cTn id="1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" dur="500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500"/>
                            </p:stCondLst>
                            <p:childTnLst>
                              <p:par>
                                <p:cTn id="1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1" dur="500"/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8000"/>
                            </p:stCondLst>
                            <p:childTnLst>
                              <p:par>
                                <p:cTn id="1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-613080" y="259920"/>
            <a:ext cx="5421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生字注音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1128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缀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行                 大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苫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蔽            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驰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担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眈眈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少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意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暇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毙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之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黠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瞑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尻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             假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4"/>
          <p:cNvSpPr/>
          <p:nvPr/>
        </p:nvSpPr>
        <p:spPr>
          <a:xfrm>
            <a:off x="1979640" y="1197000"/>
            <a:ext cx="5184720" cy="38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Times New Roman"/>
              </a:rPr>
              <a:t>（</a:t>
            </a: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zhu</a:t>
            </a:r>
            <a:r>
              <a:rPr b="1" lang="en-US" sz="4000" spc="-1" strike="noStrike">
                <a:solidFill>
                  <a:srgbClr val="3333ff"/>
                </a:solidFill>
                <a:latin typeface="Arial"/>
              </a:rPr>
              <a:t>ì</a:t>
            </a:r>
            <a:r>
              <a:rPr b="1" lang="zh-CN" sz="4000" spc="-1" strike="noStrike">
                <a:solidFill>
                  <a:srgbClr val="3333ff"/>
                </a:solidFill>
                <a:latin typeface="Times New Roman"/>
              </a:rPr>
              <a:t>）     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zh-CN" sz="4000" spc="-1" strike="noStrike">
                <a:solidFill>
                  <a:srgbClr val="3333ff"/>
                </a:solidFill>
                <a:latin typeface="Times New Roman"/>
              </a:rPr>
              <a:t>（</a:t>
            </a: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jiǒng</a:t>
            </a:r>
            <a:r>
              <a:rPr b="1" lang="zh-CN" sz="4000" spc="-1" strike="noStrike">
                <a:solidFill>
                  <a:srgbClr val="3333ff"/>
                </a:solidFill>
                <a:latin typeface="Times New Roman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Times New Roman"/>
              </a:rPr>
              <a:t>（</a:t>
            </a: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shàn</a:t>
            </a:r>
            <a:r>
              <a:rPr b="1" lang="zh-CN" sz="4000" spc="-1" strike="noStrike">
                <a:solidFill>
                  <a:srgbClr val="3333ff"/>
                </a:solidFill>
                <a:latin typeface="Times New Roman"/>
              </a:rPr>
              <a:t>）       （</a:t>
            </a: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ch</a:t>
            </a:r>
            <a:r>
              <a:rPr b="1" lang="en-US" sz="4000" spc="-1" strike="noStrike">
                <a:solidFill>
                  <a:srgbClr val="3333ff"/>
                </a:solidFill>
                <a:latin typeface="Arial"/>
              </a:rPr>
              <a:t>í</a:t>
            </a:r>
            <a:r>
              <a:rPr b="1" lang="zh-CN" sz="4000" spc="-1" strike="noStrike">
                <a:solidFill>
                  <a:srgbClr val="3333ff"/>
                </a:solidFill>
                <a:latin typeface="Times New Roman"/>
              </a:rPr>
              <a:t>）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Times New Roman"/>
              </a:rPr>
              <a:t>（</a:t>
            </a: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dān</a:t>
            </a:r>
            <a:r>
              <a:rPr b="1" lang="zh-CN" sz="4000" spc="-1" strike="noStrike">
                <a:solidFill>
                  <a:srgbClr val="3333ff"/>
                </a:solidFill>
                <a:latin typeface="Times New Roman"/>
              </a:rPr>
              <a:t>）       （</a:t>
            </a:r>
            <a:r>
              <a:rPr b="1" lang="en-US" sz="4800" spc="-1" strike="noStrike">
                <a:solidFill>
                  <a:srgbClr val="3333ff"/>
                </a:solidFill>
                <a:latin typeface="Times New Roman"/>
              </a:rPr>
              <a:t>shǎo</a:t>
            </a:r>
            <a:r>
              <a:rPr b="1" lang="zh-CN" sz="4000" spc="-1" strike="noStrike">
                <a:solidFill>
                  <a:srgbClr val="3333ff"/>
                </a:solidFill>
                <a:latin typeface="Times New Roman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3333ff"/>
                </a:solidFill>
                <a:latin typeface="Times New Roman"/>
              </a:rPr>
              <a:t>（</a:t>
            </a: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xi</a:t>
            </a:r>
            <a:r>
              <a:rPr b="1" lang="en-US" sz="4000" spc="-1" strike="noStrike">
                <a:solidFill>
                  <a:srgbClr val="3333ff"/>
                </a:solidFill>
                <a:latin typeface="Arial"/>
              </a:rPr>
              <a:t>á</a:t>
            </a:r>
            <a:r>
              <a:rPr b="1" lang="zh-CN" sz="4000" spc="-1" strike="noStrike">
                <a:solidFill>
                  <a:srgbClr val="3333ff"/>
                </a:solidFill>
                <a:latin typeface="Times New Roman"/>
              </a:rPr>
              <a:t>）        （</a:t>
            </a: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b</a:t>
            </a:r>
            <a:r>
              <a:rPr b="1" lang="en-US" sz="4000" spc="-1" strike="noStrike">
                <a:solidFill>
                  <a:srgbClr val="3333ff"/>
                </a:solidFill>
                <a:latin typeface="Arial"/>
              </a:rPr>
              <a:t>ì</a:t>
            </a:r>
            <a:r>
              <a:rPr b="1" lang="zh-CN" sz="4000" spc="-1" strike="noStrike">
                <a:solidFill>
                  <a:srgbClr val="3333ff"/>
                </a:solidFill>
                <a:latin typeface="Times New Roman"/>
              </a:rPr>
              <a:t>）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Times New Roman"/>
              </a:rPr>
              <a:t>（</a:t>
            </a: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xi</a:t>
            </a:r>
            <a:r>
              <a:rPr b="1" lang="en-US" sz="4000" spc="-1" strike="noStrike">
                <a:solidFill>
                  <a:srgbClr val="3333ff"/>
                </a:solidFill>
                <a:latin typeface="Arial"/>
              </a:rPr>
              <a:t>á</a:t>
            </a:r>
            <a:r>
              <a:rPr b="1" lang="zh-CN" sz="4000" spc="-1" strike="noStrike">
                <a:solidFill>
                  <a:srgbClr val="3333ff"/>
                </a:solidFill>
                <a:latin typeface="Times New Roman"/>
              </a:rPr>
              <a:t>）        （</a:t>
            </a: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m</a:t>
            </a:r>
            <a:r>
              <a:rPr b="1" lang="en-US" sz="4000" spc="-1" strike="noStrike">
                <a:solidFill>
                  <a:srgbClr val="3333ff"/>
                </a:solidFill>
                <a:latin typeface="Arial"/>
              </a:rPr>
              <a:t>í</a:t>
            </a: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ng</a:t>
            </a:r>
            <a:r>
              <a:rPr b="1" lang="zh-CN" sz="4000" spc="-1" strike="noStrike">
                <a:solidFill>
                  <a:srgbClr val="3333ff"/>
                </a:solidFill>
                <a:latin typeface="Times New Roman"/>
              </a:rPr>
              <a:t>）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Times New Roman"/>
              </a:rPr>
              <a:t>（</a:t>
            </a: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kāo</a:t>
            </a:r>
            <a:r>
              <a:rPr b="1" lang="zh-CN" sz="4000" spc="-1" strike="noStrike">
                <a:solidFill>
                  <a:srgbClr val="3333ff"/>
                </a:solidFill>
                <a:latin typeface="Times New Roman"/>
              </a:rPr>
              <a:t>）        （</a:t>
            </a: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m</a:t>
            </a:r>
            <a:r>
              <a:rPr b="1" lang="en-US" sz="4000" spc="-1" strike="noStrike">
                <a:solidFill>
                  <a:srgbClr val="3333ff"/>
                </a:solidFill>
                <a:latin typeface="Arial"/>
              </a:rPr>
              <a:t>è</a:t>
            </a: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i</a:t>
            </a:r>
            <a:r>
              <a:rPr b="1" lang="zh-CN" sz="4000" spc="-1" strike="noStrike">
                <a:solidFill>
                  <a:srgbClr val="3333ff"/>
                </a:solidFill>
                <a:latin typeface="Times New Roman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5"/>
          <p:cNvSpPr/>
          <p:nvPr/>
        </p:nvSpPr>
        <p:spPr>
          <a:xfrm>
            <a:off x="5400720" y="0"/>
            <a:ext cx="3743280" cy="1143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狼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蒲松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  <p:sndAc>
      <p:stSnd>
        <p:snd r:embed="rId1" name="%E7%8B%BC.WAV"/>
      </p:stSnd>
    </p:sndAc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19T01:08:25Z</dcterms:created>
  <dc:creator>张璇</dc:creator>
  <dc:description/>
  <dc:language>en-US</dc:language>
  <cp:lastModifiedBy>Administrator</cp:lastModifiedBy>
  <dcterms:modified xsi:type="dcterms:W3CDTF">2015-05-26T06:07:18Z</dcterms:modified>
  <cp:revision>442</cp:revision>
  <dc:subject/>
  <dc:title>《狼》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